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00"/>
                </a:solidFill>
                <a:latin typeface="Tempus Sans ITC"/>
              </a:rPr>
              <a:t>Click to move the slide</a:t>
            </a: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1304-C914-45CF-82CC-7A9384DDD0E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mportante notar que há muitas subabordage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mportante notar que há muitas subabordage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mportante notar que há muitas subabordage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geral, eles já inferem qual o tagset a partir do corpus de tre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 mam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geral, eles já inferem qual o tagset a partir do corpus de tre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 mam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geral, eles já inferem qual o tagset a partir do corpus de tre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 mam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geral, eles já inferem qual o tagset a partir do corpus de tre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 mam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geral, eles já inferem qual o tagset a partir do corpus de tre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 mam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geral, eles já inferem qual o tagset a partir do corpus de tre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 mam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geral, eles já inferem qual o tagset a partir do corpus de tre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 mam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geral, eles já inferem qual o tagset a partir do corpus de tre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 mam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geral, eles já inferem qual o tagset a partir do corpus de tre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 mam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geral, eles já inferem qual o tagset a partir do corpus de tre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 mam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geral, eles já inferem qual o tagset a partir do corpus de tre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 mam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geral, eles já inferem qual o tagset a partir do corpus de tre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 mam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geral, eles já inferem qual o tagset a partir do corpus de tre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 mam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geral, eles já inferem qual o tagset a partir do corpus de tre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 mam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geral, eles já inferem qual o tagset a partir do corpus de tre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 mam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geral, eles já inferem qual o tagset a partir do corpus de tre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 mam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geral, eles já inferem qual o tagset a partir do corpus de tre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 mam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geral, eles já inferem qual o tagset a partir do corpus de tre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 mam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geral, eles já inferem qual o tagset a partir do corpus de tre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 mam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geral, eles já inferem qual o tagset a partir do corpus de tre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 mam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geral, eles já inferem qual o tagset a partir do corpus de tre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 mam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geral, eles já inferem qual o tagset a partir do corpus de tre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 mam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tagger não é mais um humano, portanto menos flexí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emos uma adaptação tanto em elementos quanto em terminolog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6650-46FA-4FDA-A5D3-5431FB21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EBE7-2A82-4D63-B963-FDE7BC57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89E-C90B-40E8-B44C-9B31BF06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989D-DC9C-4B15-B575-B936ECF5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BB8D-EBEA-48E1-9B6D-0F19EA61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5DC4-C990-43B6-9978-CCBCA21B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B968-C257-4CF7-9301-6AA229DC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CA42-ED83-4631-9784-11A770D7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257A-723A-48D7-849C-250B0F26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2CD4-1A9B-4878-9D45-D5B48529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0351-E3AE-4365-BDF9-D67D09AF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9467-B7F0-4C48-BAFA-728B2E17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0BF0-DC29-441B-BC30-A883D329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D41F-04C2-429C-B234-D84EBCE8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0209-9D87-47D5-939A-D9390CD9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2EAA-221B-467C-A4E4-6AEE2750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05E0-1A5C-4CAC-B10B-54AA5019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1B52-93F9-4843-9F66-7F0EBEAB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3CC-01A7-426B-ABB3-3529991C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5A5B-B0E7-4448-A9C2-10A9DB91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055-4725-43BC-AFE3-7FA37E9B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BD6-64F3-4DBC-8E8A-5128D4FE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656-CEF5-4F16-998F-28691E68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BA6C-35D2-4A16-A4AD-55AE6B4F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raires@icmc.sc.usp.br" TargetMode="External"/><Relationship Id="rId3" Type="http://schemas.openxmlformats.org/officeDocument/2006/relationships/hyperlink" Target="mailto:raires@icmc.sc.usp.br" TargetMode="External"/><Relationship Id="rId4" Type="http://schemas.openxmlformats.org/officeDocument/2006/relationships/hyperlink" Target="mailto:raires@icmc.sc.usp.br" TargetMode="External"/><Relationship Id="rId5" Type="http://schemas.openxmlformats.org/officeDocument/2006/relationships/hyperlink" Target="mailto:raires@icmc.sc.usp.br" TargetMode="External"/><Relationship Id="rId6" Type="http://schemas.openxmlformats.org/officeDocument/2006/relationships/hyperlink" Target="mailto:raires@icmc.sc.usp.br" TargetMode="External"/><Relationship Id="rId7" Type="http://schemas.openxmlformats.org/officeDocument/2006/relationships/slide" Target="slide2.xm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mailto:raires@icmc.sc.usp.br" TargetMode="External"/><Relationship Id="rId3" Type="http://schemas.openxmlformats.org/officeDocument/2006/relationships/hyperlink" Target="mailto:raires@icmc.sc.usp.br" TargetMode="External"/><Relationship Id="rId4" Type="http://schemas.openxmlformats.org/officeDocument/2006/relationships/hyperlink" Target="mailto:raires@icmc.sc.usp.br" TargetMode="External"/><Relationship Id="rId5" Type="http://schemas.openxmlformats.org/officeDocument/2006/relationships/hyperlink" Target="mailto:raires@icmc.sc.usp.br" TargetMode="External"/><Relationship Id="rId6" Type="http://schemas.openxmlformats.org/officeDocument/2006/relationships/hyperlink" Target="mailto:raires@icmc.sc.usp.br" TargetMode="Externa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d9d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6a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2819520" y="6629400"/>
            <a:ext cx="1752480" cy="227160"/>
          </a:xfrm>
          <a:prstGeom prst="rect">
            <a:avLst/>
          </a:prstGeom>
          <a:gradFill rotWithShape="0">
            <a:gsLst>
              <a:gs pos="0">
                <a:srgbClr val="5c5c5c"/>
              </a:gs>
              <a:gs pos="50000">
                <a:srgbClr val="ffffff"/>
              </a:gs>
              <a:gs pos="100000">
                <a:srgbClr val="5c5c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Próximo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432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00"/>
                </a:solidFill>
                <a:latin typeface="Tempus Sans ITC"/>
              </a:rPr>
              <a:t>Click to edit the title text format</a:t>
            </a: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a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a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5CC4-8B05-4DCD-9E46-0F6A51DA01AD}" type="slidenum"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" action="ppaction://hlinkshowjump?jump=previousslide"/>
          </p:cNvPr>
          <p:cNvSpPr/>
          <p:nvPr/>
        </p:nvSpPr>
        <p:spPr>
          <a:xfrm>
            <a:off x="762120" y="6629400"/>
            <a:ext cx="1752480" cy="227160"/>
          </a:xfrm>
          <a:prstGeom prst="rect">
            <a:avLst/>
          </a:prstGeom>
          <a:gradFill rotWithShape="0">
            <a:gsLst>
              <a:gs pos="0">
                <a:srgbClr val="5c5c5c"/>
              </a:gs>
              <a:gs pos="50000">
                <a:srgbClr val="ffffff"/>
              </a:gs>
              <a:gs pos="100000">
                <a:srgbClr val="5c5c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Anterio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553080" y="0"/>
            <a:ext cx="2708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6600"/>
                </a:solidFill>
                <a:uFillTx/>
                <a:latin typeface="Times New Roman"/>
                <a:hlinkClick r:id="rId2"/>
              </a:rPr>
              <a:t>raires</a:t>
            </a:r>
            <a:r>
              <a:rPr b="0" lang="pt-BR" sz="1400" spc="-1" strike="noStrike" u="sng">
                <a:solidFill>
                  <a:srgbClr val="006600"/>
                </a:solidFill>
                <a:uFillTx/>
                <a:latin typeface="Times New Roman"/>
                <a:hlinkClick r:id="rId3"/>
              </a:rPr>
              <a:t>@</a:t>
            </a:r>
            <a:r>
              <a:rPr b="0" lang="pt-BR" sz="1400" spc="-1" strike="noStrike" u="sng">
                <a:solidFill>
                  <a:srgbClr val="006600"/>
                </a:solidFill>
                <a:uFillTx/>
                <a:latin typeface="Times New Roman"/>
                <a:hlinkClick r:id="rId4"/>
              </a:rPr>
              <a:t>icmc</a:t>
            </a:r>
            <a:r>
              <a:rPr b="0" lang="pt-BR" sz="1400" spc="-1" strike="noStrike" u="sng">
                <a:solidFill>
                  <a:srgbClr val="006600"/>
                </a:solidFill>
                <a:uFillTx/>
                <a:latin typeface="Times New Roman"/>
                <a:hlinkClick r:id="rId5"/>
              </a:rPr>
              <a:t>.sc.usp.</a:t>
            </a:r>
            <a:r>
              <a:rPr b="0" lang="pt-BR" sz="1400" spc="-1" strike="noStrike" u="sng">
                <a:solidFill>
                  <a:srgbClr val="006600"/>
                </a:solidFill>
                <a:uFillTx/>
                <a:latin typeface="Times New Roman"/>
                <a:hlinkClick r:id="rId6"/>
              </a:rPr>
              <a:t>b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">
            <a:hlinkClick r:id="rId7" action="ppaction://hlinksldjump"/>
          </p:cNvPr>
          <p:cNvSpPr/>
          <p:nvPr/>
        </p:nvSpPr>
        <p:spPr>
          <a:xfrm>
            <a:off x="0" y="6400800"/>
            <a:ext cx="9144000" cy="457200"/>
          </a:xfrm>
          <a:prstGeom prst="roundRect">
            <a:avLst>
              <a:gd name="adj" fmla="val 16667"/>
            </a:avLst>
          </a:prstGeom>
          <a:solidFill>
            <a:srgbClr val="006a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8"/>
          <a:stretch/>
        </p:blipFill>
        <p:spPr>
          <a:xfrm>
            <a:off x="990720" y="6381720"/>
            <a:ext cx="914400" cy="45720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1979640" y="6453360"/>
            <a:ext cx="66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"/>
              </a:rPr>
              <a:t>introdução à etiquetagem morfossintática automátic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9d9d9d"/>
              </a:gs>
              <a:gs pos="50000">
                <a:srgbClr val="ffffff"/>
              </a:gs>
              <a:gs pos="100000">
                <a:srgbClr val="9d9d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00"/>
                </a:solidFill>
                <a:latin typeface="Tempus Sans ITC"/>
              </a:rPr>
              <a:t>Click to edit the title text format</a:t>
            </a: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8188-C529-453E-9851-3AE0EF400D50}" type="slidenum"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6a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6400800"/>
            <a:ext cx="2708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6600"/>
                </a:solidFill>
                <a:uFillTx/>
                <a:latin typeface="Times New Roman"/>
                <a:hlinkClick r:id="rId2"/>
              </a:rPr>
              <a:t>raires</a:t>
            </a:r>
            <a:r>
              <a:rPr b="0" lang="pt-BR" sz="1400" spc="-1" strike="noStrike" u="sng">
                <a:solidFill>
                  <a:srgbClr val="006600"/>
                </a:solidFill>
                <a:uFillTx/>
                <a:latin typeface="Times New Roman"/>
                <a:hlinkClick r:id="rId3"/>
              </a:rPr>
              <a:t>@</a:t>
            </a:r>
            <a:r>
              <a:rPr b="0" lang="pt-BR" sz="1400" spc="-1" strike="noStrike" u="sng">
                <a:solidFill>
                  <a:srgbClr val="006600"/>
                </a:solidFill>
                <a:uFillTx/>
                <a:latin typeface="Times New Roman"/>
                <a:hlinkClick r:id="rId4"/>
              </a:rPr>
              <a:t>icmc</a:t>
            </a:r>
            <a:r>
              <a:rPr b="0" lang="pt-BR" sz="1400" spc="-1" strike="noStrike" u="sng">
                <a:solidFill>
                  <a:srgbClr val="006600"/>
                </a:solidFill>
                <a:uFillTx/>
                <a:latin typeface="Times New Roman"/>
                <a:hlinkClick r:id="rId5"/>
              </a:rPr>
              <a:t>.sc.usp.</a:t>
            </a:r>
            <a:r>
              <a:rPr b="0" lang="pt-BR" sz="1400" spc="-1" strike="noStrike" u="sng">
                <a:solidFill>
                  <a:srgbClr val="006600"/>
                </a:solidFill>
                <a:uFillTx/>
                <a:latin typeface="Times New Roman"/>
                <a:hlinkClick r:id="rId6"/>
              </a:rPr>
              <a:t>b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6a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6a5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905120"/>
            <a:ext cx="1447920" cy="49528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4141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76520"/>
            <a:ext cx="48769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286000"/>
            <a:ext cx="79246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a00"/>
                </a:solidFill>
                <a:latin typeface="Tempus Sans ITC"/>
              </a:rPr>
              <a:t>Introdução à</a:t>
            </a:r>
            <a:br>
              <a:rPr sz="2800"/>
            </a:br>
            <a:r>
              <a:rPr b="1" lang="pt-BR" sz="3600" spc="-1" strike="noStrike">
                <a:solidFill>
                  <a:srgbClr val="006a00"/>
                </a:solidFill>
                <a:latin typeface="Tempus Sans ITC"/>
              </a:rPr>
              <a:t>Etiquetação Morfossintática</a:t>
            </a:r>
            <a:br>
              <a:rPr sz="3600"/>
            </a:br>
            <a:r>
              <a:rPr b="1" lang="pt-BR" sz="2800" spc="-1" strike="noStrike">
                <a:solidFill>
                  <a:srgbClr val="006a00"/>
                </a:solidFill>
                <a:latin typeface="Tempus Sans ITC"/>
              </a:rPr>
              <a:t>Automát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79960" y="5029200"/>
            <a:ext cx="47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4c00"/>
                </a:solidFill>
                <a:latin typeface="Papyrus"/>
              </a:rPr>
              <a:t>Jorge Marques Pelizzon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4c00"/>
                </a:solidFill>
                <a:latin typeface="Papyrus"/>
              </a:rPr>
              <a:t>Rachel Virgínia Xavier Ai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4c00"/>
                </a:solidFill>
                <a:latin typeface="Papyrus"/>
              </a:rPr>
              <a:t>Sandra Maria Aluísi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144792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042920" y="4221000"/>
            <a:ext cx="2817720" cy="2016360"/>
          </a:xfrm>
          <a:custGeom>
            <a:avLst/>
            <a:gdLst/>
            <a:ahLst/>
            <a:rect l="l" t="t" r="r" b="b"/>
            <a:pathLst>
              <a:path w="1775" h="1270">
                <a:moveTo>
                  <a:pt x="56" y="84"/>
                </a:moveTo>
                <a:lnTo>
                  <a:pt x="1769" y="0"/>
                </a:lnTo>
                <a:lnTo>
                  <a:pt x="1775" y="1163"/>
                </a:lnTo>
                <a:lnTo>
                  <a:pt x="0" y="1270"/>
                </a:lnTo>
                <a:lnTo>
                  <a:pt x="56" y="8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2400" spc="-1" strike="noStrike">
                <a:solidFill>
                  <a:srgbClr val="004c00"/>
                </a:solidFill>
                <a:latin typeface="Tempus Sans ITC"/>
              </a:rPr>
              <a:t>Etiquetação Morfossintática</a:t>
            </a:r>
            <a:r>
              <a:rPr b="1" lang="pt-BR" sz="2800" spc="-1" strike="noStrike">
                <a:solidFill>
                  <a:srgbClr val="004c00"/>
                </a:solidFill>
                <a:latin typeface="Tempus Sans ITC"/>
              </a:rPr>
              <a:t> </a:t>
            </a:r>
            <a:r>
              <a:rPr b="1" lang="pt-BR" sz="4000" spc="-1" strike="noStrike">
                <a:solidFill>
                  <a:srgbClr val="cc9900"/>
                </a:solidFill>
                <a:latin typeface="Tempus Sans ITC"/>
              </a:rPr>
              <a:t>Automátic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3280" y="4421160"/>
            <a:ext cx="136692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 xx x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 xx 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 xxx x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187280" y="4421160"/>
            <a:ext cx="2556000" cy="1600200"/>
            <a:chOff x="1187280" y="4421160"/>
            <a:chExt cx="2556000" cy="1600200"/>
          </a:xfrm>
        </p:grpSpPr>
        <p:sp>
          <p:nvSpPr>
            <p:cNvPr id="175" name=""/>
            <p:cNvSpPr/>
            <p:nvPr/>
          </p:nvSpPr>
          <p:spPr>
            <a:xfrm>
              <a:off x="1187280" y="4421160"/>
              <a:ext cx="2556000" cy="160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b1cfb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98240" y="49546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Pré-processado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7021440" y="2549520"/>
            <a:ext cx="136692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V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N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PRE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498920" y="2476440"/>
            <a:ext cx="1620720" cy="1600200"/>
            <a:chOff x="4498920" y="2476440"/>
            <a:chExt cx="1620720" cy="1600200"/>
          </a:xfrm>
        </p:grpSpPr>
        <p:sp>
          <p:nvSpPr>
            <p:cNvPr id="179" name=""/>
            <p:cNvSpPr/>
            <p:nvPr/>
          </p:nvSpPr>
          <p:spPr>
            <a:xfrm>
              <a:off x="4498920" y="2476440"/>
              <a:ext cx="1620720" cy="160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b1cfb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4200" y="300996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Tagge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013440" y="3052800"/>
            <a:ext cx="1150920" cy="50328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63640" y="2492280"/>
            <a:ext cx="136692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aa a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a aa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aa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4896360" y="389592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35280" y="4941720"/>
            <a:ext cx="1150920" cy="50328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2016720" y="411372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417000">
            <a:off x="394920" y="2133360"/>
            <a:ext cx="1655640" cy="936360"/>
          </a:xfrm>
          <a:prstGeom prst="wedgeRectCallout">
            <a:avLst>
              <a:gd name="adj1" fmla="val 79310"/>
              <a:gd name="adj2" fmla="val 61527"/>
            </a:avLst>
          </a:prstGeom>
          <a:solidFill>
            <a:srgbClr val="ffff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texto</a:t>
            </a:r>
            <a:br>
              <a:rPr sz="2400"/>
            </a:b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“cru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42920" y="4221000"/>
            <a:ext cx="2817720" cy="2016360"/>
          </a:xfrm>
          <a:custGeom>
            <a:avLst/>
            <a:gdLst/>
            <a:ahLst/>
            <a:rect l="l" t="t" r="r" b="b"/>
            <a:pathLst>
              <a:path w="1775" h="1270">
                <a:moveTo>
                  <a:pt x="56" y="84"/>
                </a:moveTo>
                <a:lnTo>
                  <a:pt x="1769" y="0"/>
                </a:lnTo>
                <a:lnTo>
                  <a:pt x="1775" y="1163"/>
                </a:lnTo>
                <a:lnTo>
                  <a:pt x="0" y="1270"/>
                </a:lnTo>
                <a:lnTo>
                  <a:pt x="56" y="8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2400" spc="-1" strike="noStrike">
                <a:solidFill>
                  <a:srgbClr val="004c00"/>
                </a:solidFill>
                <a:latin typeface="Tempus Sans ITC"/>
              </a:rPr>
              <a:t>Etiquetação Morfossintática</a:t>
            </a:r>
            <a:r>
              <a:rPr b="1" lang="pt-BR" sz="2800" spc="-1" strike="noStrike">
                <a:solidFill>
                  <a:srgbClr val="004c00"/>
                </a:solidFill>
                <a:latin typeface="Tempus Sans ITC"/>
              </a:rPr>
              <a:t> </a:t>
            </a:r>
            <a:r>
              <a:rPr b="1" lang="pt-BR" sz="4000" spc="-1" strike="noStrike">
                <a:solidFill>
                  <a:srgbClr val="cc9900"/>
                </a:solidFill>
                <a:latin typeface="Tempus Sans ITC"/>
              </a:rPr>
              <a:t>Automátic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4421160"/>
            <a:ext cx="136692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 xx x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 xx 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 xxx x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87280" y="4421160"/>
            <a:ext cx="2556000" cy="1600200"/>
            <a:chOff x="1187280" y="4421160"/>
            <a:chExt cx="2556000" cy="1600200"/>
          </a:xfrm>
        </p:grpSpPr>
        <p:sp>
          <p:nvSpPr>
            <p:cNvPr id="192" name=""/>
            <p:cNvSpPr/>
            <p:nvPr/>
          </p:nvSpPr>
          <p:spPr>
            <a:xfrm>
              <a:off x="1187280" y="4421160"/>
              <a:ext cx="2556000" cy="160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b1cfb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98240" y="49546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Pré-processado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021440" y="2549520"/>
            <a:ext cx="136692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V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N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PRE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498920" y="2476440"/>
            <a:ext cx="1620720" cy="1600200"/>
            <a:chOff x="4498920" y="2476440"/>
            <a:chExt cx="1620720" cy="1600200"/>
          </a:xfrm>
        </p:grpSpPr>
        <p:sp>
          <p:nvSpPr>
            <p:cNvPr id="196" name=""/>
            <p:cNvSpPr/>
            <p:nvPr/>
          </p:nvSpPr>
          <p:spPr>
            <a:xfrm>
              <a:off x="4498920" y="2476440"/>
              <a:ext cx="1620720" cy="160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b1cfb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04200" y="300996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Tagge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013440" y="3052800"/>
            <a:ext cx="1150920" cy="50328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2492280"/>
            <a:ext cx="136692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aa a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a aa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aa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4896360" y="389592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35280" y="4941720"/>
            <a:ext cx="1150920" cy="50328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2016720" y="411372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417000">
            <a:off x="6345000" y="5082840"/>
            <a:ext cx="1655640" cy="936720"/>
          </a:xfrm>
          <a:prstGeom prst="wedgeRectCallout">
            <a:avLst>
              <a:gd name="adj1" fmla="val -111712"/>
              <a:gd name="adj2" fmla="val -13532"/>
            </a:avLst>
          </a:prstGeom>
          <a:solidFill>
            <a:srgbClr val="ffff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texto formata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417000">
            <a:off x="394920" y="2133360"/>
            <a:ext cx="1655640" cy="936360"/>
          </a:xfrm>
          <a:prstGeom prst="wedgeRectCallout">
            <a:avLst>
              <a:gd name="adj1" fmla="val 79310"/>
              <a:gd name="adj2" fmla="val 61527"/>
            </a:avLst>
          </a:prstGeom>
          <a:solidFill>
            <a:srgbClr val="ffff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texto</a:t>
            </a:r>
            <a:br>
              <a:rPr sz="2400"/>
            </a:b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“cru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042920" y="4221000"/>
            <a:ext cx="2817720" cy="2016360"/>
          </a:xfrm>
          <a:custGeom>
            <a:avLst/>
            <a:gdLst/>
            <a:ahLst/>
            <a:rect l="l" t="t" r="r" b="b"/>
            <a:pathLst>
              <a:path w="1775" h="1270">
                <a:moveTo>
                  <a:pt x="56" y="84"/>
                </a:moveTo>
                <a:lnTo>
                  <a:pt x="1769" y="0"/>
                </a:lnTo>
                <a:lnTo>
                  <a:pt x="1775" y="1163"/>
                </a:lnTo>
                <a:lnTo>
                  <a:pt x="0" y="1270"/>
                </a:lnTo>
                <a:lnTo>
                  <a:pt x="56" y="8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2400" spc="-1" strike="noStrike">
                <a:solidFill>
                  <a:srgbClr val="004c00"/>
                </a:solidFill>
                <a:latin typeface="Tempus Sans ITC"/>
              </a:rPr>
              <a:t>Etiquetação Morfossintática</a:t>
            </a:r>
            <a:r>
              <a:rPr b="1" lang="pt-BR" sz="2800" spc="-1" strike="noStrike">
                <a:solidFill>
                  <a:srgbClr val="004c00"/>
                </a:solidFill>
                <a:latin typeface="Tempus Sans ITC"/>
              </a:rPr>
              <a:t> </a:t>
            </a:r>
            <a:r>
              <a:rPr b="1" lang="pt-BR" sz="4000" spc="-1" strike="noStrike">
                <a:solidFill>
                  <a:srgbClr val="cc9900"/>
                </a:solidFill>
                <a:latin typeface="Tempus Sans ITC"/>
              </a:rPr>
              <a:t>Automátic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43280" y="4421160"/>
            <a:ext cx="136692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 xx x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 xx 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 xxx x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187280" y="4421160"/>
            <a:ext cx="2556000" cy="1600200"/>
            <a:chOff x="1187280" y="4421160"/>
            <a:chExt cx="2556000" cy="1600200"/>
          </a:xfrm>
        </p:grpSpPr>
        <p:sp>
          <p:nvSpPr>
            <p:cNvPr id="210" name=""/>
            <p:cNvSpPr/>
            <p:nvPr/>
          </p:nvSpPr>
          <p:spPr>
            <a:xfrm>
              <a:off x="1187280" y="4421160"/>
              <a:ext cx="2556000" cy="160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b1cfb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98240" y="49546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Pré-processado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021440" y="2549520"/>
            <a:ext cx="136692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V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N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PRE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98920" y="2476440"/>
            <a:ext cx="1620720" cy="1600200"/>
            <a:chOff x="4498920" y="2476440"/>
            <a:chExt cx="1620720" cy="1600200"/>
          </a:xfrm>
        </p:grpSpPr>
        <p:sp>
          <p:nvSpPr>
            <p:cNvPr id="214" name=""/>
            <p:cNvSpPr/>
            <p:nvPr/>
          </p:nvSpPr>
          <p:spPr>
            <a:xfrm>
              <a:off x="4498920" y="2476440"/>
              <a:ext cx="1620720" cy="160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b1cfb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04200" y="300996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Tagge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013440" y="3052800"/>
            <a:ext cx="1150920" cy="50328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63640" y="2492280"/>
            <a:ext cx="136692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aa a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a aa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aa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4896360" y="389592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4941720"/>
            <a:ext cx="1150920" cy="50328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2016720" y="411372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417000">
            <a:off x="6345000" y="5082840"/>
            <a:ext cx="1655640" cy="936720"/>
          </a:xfrm>
          <a:prstGeom prst="wedgeRectCallout">
            <a:avLst>
              <a:gd name="adj1" fmla="val -111712"/>
              <a:gd name="adj2" fmla="val -13532"/>
            </a:avLst>
          </a:prstGeom>
          <a:solidFill>
            <a:srgbClr val="ffff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texto formata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417000">
            <a:off x="394920" y="2133360"/>
            <a:ext cx="1655640" cy="936360"/>
          </a:xfrm>
          <a:prstGeom prst="wedgeRectCallout">
            <a:avLst>
              <a:gd name="adj1" fmla="val 79310"/>
              <a:gd name="adj2" fmla="val 61527"/>
            </a:avLst>
          </a:prstGeom>
          <a:solidFill>
            <a:srgbClr val="ffff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texto</a:t>
            </a:r>
            <a:br>
              <a:rPr sz="2400"/>
            </a:b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“cru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417000">
            <a:off x="5745240" y="1484280"/>
            <a:ext cx="1655640" cy="576360"/>
          </a:xfrm>
          <a:prstGeom prst="wedgeRectCallout">
            <a:avLst>
              <a:gd name="adj1" fmla="val 56615"/>
              <a:gd name="adj2" fmla="val 177231"/>
            </a:avLst>
          </a:prstGeom>
          <a:solidFill>
            <a:srgbClr val="ffff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42920" y="4221000"/>
            <a:ext cx="2817720" cy="2016360"/>
          </a:xfrm>
          <a:custGeom>
            <a:avLst/>
            <a:gdLst/>
            <a:ahLst/>
            <a:rect l="l" t="t" r="r" b="b"/>
            <a:pathLst>
              <a:path w="1775" h="1270">
                <a:moveTo>
                  <a:pt x="56" y="84"/>
                </a:moveTo>
                <a:lnTo>
                  <a:pt x="1769" y="0"/>
                </a:lnTo>
                <a:lnTo>
                  <a:pt x="1775" y="1163"/>
                </a:lnTo>
                <a:lnTo>
                  <a:pt x="0" y="1270"/>
                </a:lnTo>
                <a:lnTo>
                  <a:pt x="56" y="8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2400" spc="-1" strike="noStrike">
                <a:solidFill>
                  <a:srgbClr val="004c00"/>
                </a:solidFill>
                <a:latin typeface="Tempus Sans ITC"/>
              </a:rPr>
              <a:t>Etiquetação Morfossintática</a:t>
            </a:r>
            <a:r>
              <a:rPr b="1" lang="pt-BR" sz="2800" spc="-1" strike="noStrike">
                <a:solidFill>
                  <a:srgbClr val="004c00"/>
                </a:solidFill>
                <a:latin typeface="Tempus Sans ITC"/>
              </a:rPr>
              <a:t> </a:t>
            </a:r>
            <a:r>
              <a:rPr b="1" lang="pt-BR" sz="4000" spc="-1" strike="noStrike">
                <a:solidFill>
                  <a:srgbClr val="cc9900"/>
                </a:solidFill>
                <a:latin typeface="Tempus Sans ITC"/>
              </a:rPr>
              <a:t>Automátic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3280" y="4421160"/>
            <a:ext cx="136692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 xx x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 xx 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 xxx x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187280" y="4421160"/>
            <a:ext cx="2556000" cy="1600200"/>
            <a:chOff x="1187280" y="4421160"/>
            <a:chExt cx="2556000" cy="1600200"/>
          </a:xfrm>
        </p:grpSpPr>
        <p:sp>
          <p:nvSpPr>
            <p:cNvPr id="229" name=""/>
            <p:cNvSpPr/>
            <p:nvPr/>
          </p:nvSpPr>
          <p:spPr>
            <a:xfrm>
              <a:off x="1187280" y="4421160"/>
              <a:ext cx="2556000" cy="160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b1cfb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98240" y="49546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Pré-processado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7021440" y="2549520"/>
            <a:ext cx="136692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V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N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PRE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98920" y="2476440"/>
            <a:ext cx="1620720" cy="1600200"/>
            <a:chOff x="4498920" y="2476440"/>
            <a:chExt cx="1620720" cy="1600200"/>
          </a:xfrm>
        </p:grpSpPr>
        <p:sp>
          <p:nvSpPr>
            <p:cNvPr id="233" name=""/>
            <p:cNvSpPr/>
            <p:nvPr/>
          </p:nvSpPr>
          <p:spPr>
            <a:xfrm>
              <a:off x="4498920" y="2476440"/>
              <a:ext cx="1620720" cy="160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b1cfb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04200" y="300996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Tagge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6013440" y="3052800"/>
            <a:ext cx="1150920" cy="50328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63640" y="2492280"/>
            <a:ext cx="136692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aa a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a aa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aa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4896360" y="389592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35280" y="4941720"/>
            <a:ext cx="1150920" cy="50328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016720" y="411372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417000">
            <a:off x="6345000" y="5082840"/>
            <a:ext cx="1655640" cy="936720"/>
          </a:xfrm>
          <a:prstGeom prst="wedgeRectCallout">
            <a:avLst>
              <a:gd name="adj1" fmla="val -111712"/>
              <a:gd name="adj2" fmla="val -13532"/>
            </a:avLst>
          </a:prstGeom>
          <a:solidFill>
            <a:srgbClr val="ffff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texto formata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417000">
            <a:off x="394920" y="2133360"/>
            <a:ext cx="1655640" cy="936360"/>
          </a:xfrm>
          <a:prstGeom prst="wedgeRectCallout">
            <a:avLst>
              <a:gd name="adj1" fmla="val 79310"/>
              <a:gd name="adj2" fmla="val 61527"/>
            </a:avLst>
          </a:prstGeom>
          <a:solidFill>
            <a:srgbClr val="ffff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texto</a:t>
            </a:r>
            <a:br>
              <a:rPr sz="2400"/>
            </a:b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“cru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417000">
            <a:off x="5745240" y="1484280"/>
            <a:ext cx="1655640" cy="576360"/>
          </a:xfrm>
          <a:prstGeom prst="wedgeRectCallout">
            <a:avLst>
              <a:gd name="adj1" fmla="val 56615"/>
              <a:gd name="adj2" fmla="val 177231"/>
            </a:avLst>
          </a:prstGeom>
          <a:solidFill>
            <a:srgbClr val="ffff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66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417000">
            <a:off x="6948360" y="4437000"/>
            <a:ext cx="1656000" cy="576360"/>
          </a:xfrm>
          <a:prstGeom prst="wedgeRectCallout">
            <a:avLst>
              <a:gd name="adj1" fmla="val -2046"/>
              <a:gd name="adj2" fmla="val -187495"/>
            </a:avLst>
          </a:prstGeom>
          <a:solidFill>
            <a:srgbClr val="ffff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TA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2400" spc="-1" strike="noStrike">
                <a:solidFill>
                  <a:srgbClr val="004c00"/>
                </a:solidFill>
                <a:latin typeface="Tempus Sans ITC"/>
              </a:rPr>
              <a:t>Etiquetação Morfossintática</a:t>
            </a:r>
            <a:r>
              <a:rPr b="1" lang="pt-BR" sz="2800" spc="-1" strike="noStrike">
                <a:solidFill>
                  <a:srgbClr val="004c00"/>
                </a:solidFill>
                <a:latin typeface="Tempus Sans ITC"/>
              </a:rPr>
              <a:t> </a:t>
            </a:r>
            <a:r>
              <a:rPr b="1" lang="pt-BR" sz="4000" spc="-1" strike="noStrike">
                <a:solidFill>
                  <a:srgbClr val="cc9900"/>
                </a:solidFill>
                <a:latin typeface="Tempus Sans ITC"/>
              </a:rPr>
              <a:t>Automátic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3280" y="4421160"/>
            <a:ext cx="1366920" cy="158436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59595"/>
                </a:solidFill>
                <a:latin typeface="Times New Roman"/>
              </a:rPr>
              <a:t>xxx xx x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59595"/>
                </a:solidFill>
                <a:latin typeface="Times New Roman"/>
              </a:rPr>
              <a:t>xxxx xx x</a:t>
            </a:r>
            <a:br>
              <a:rPr sz="2400"/>
            </a:br>
            <a:r>
              <a:rPr b="0" lang="pt-BR" sz="2400" spc="-1" strike="noStrike">
                <a:solidFill>
                  <a:srgbClr val="959595"/>
                </a:solidFill>
                <a:latin typeface="Times New Roman"/>
              </a:rPr>
              <a:t>xx xxx x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4421160"/>
            <a:ext cx="2556000" cy="16002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98600" y="4954680"/>
            <a:ext cx="23158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59595"/>
                </a:solidFill>
                <a:latin typeface="Times New Roman"/>
              </a:rPr>
              <a:t>Pré-processad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21440" y="2549520"/>
            <a:ext cx="1366920" cy="158436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59595"/>
                </a:solidFill>
                <a:latin typeface="Times New Roman"/>
              </a:rPr>
              <a:t>xxx_V</a:t>
            </a:r>
            <a:br>
              <a:rPr sz="2400"/>
            </a:br>
            <a:r>
              <a:rPr b="0" lang="pt-BR" sz="2400" spc="-1" strike="noStrike">
                <a:solidFill>
                  <a:srgbClr val="959595"/>
                </a:solidFill>
                <a:latin typeface="Times New Roman"/>
              </a:rPr>
              <a:t>xxxx_N</a:t>
            </a:r>
            <a:br>
              <a:rPr sz="2400"/>
            </a:br>
            <a:r>
              <a:rPr b="0" lang="pt-BR" sz="2400" spc="-1" strike="noStrike">
                <a:solidFill>
                  <a:srgbClr val="959595"/>
                </a:solidFill>
                <a:latin typeface="Times New Roman"/>
              </a:rPr>
              <a:t>xx_PRE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13440" y="3052800"/>
            <a:ext cx="1150920" cy="50328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cap="sq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63640" y="2492280"/>
            <a:ext cx="1366920" cy="158436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59595"/>
                </a:solidFill>
                <a:latin typeface="Lucida Handwriting"/>
              </a:rPr>
              <a:t>aaa a</a:t>
            </a:r>
            <a:br>
              <a:rPr sz="2400"/>
            </a:br>
            <a:r>
              <a:rPr b="0" lang="pt-BR" sz="2400" spc="-1" strike="noStrike">
                <a:solidFill>
                  <a:srgbClr val="959595"/>
                </a:solidFill>
                <a:latin typeface="Lucida Handwriting"/>
              </a:rPr>
              <a:t>aa aa</a:t>
            </a:r>
            <a:br>
              <a:rPr sz="2400"/>
            </a:br>
            <a:r>
              <a:rPr b="0" lang="pt-BR" sz="2400" spc="-1" strike="noStrike">
                <a:solidFill>
                  <a:srgbClr val="959595"/>
                </a:solidFill>
                <a:latin typeface="Lucida Handwriting"/>
              </a:rPr>
              <a:t>aaa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4896360" y="389592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cap="sq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35280" y="4941720"/>
            <a:ext cx="1150920" cy="50328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cap="sq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5400000">
            <a:off x="2016720" y="411372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cap="sq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81480" y="2220840"/>
            <a:ext cx="2046240" cy="2060640"/>
          </a:xfrm>
          <a:custGeom>
            <a:avLst/>
            <a:gdLst/>
            <a:ahLst/>
            <a:rect l="l" t="t" r="r" b="b"/>
            <a:pathLst>
              <a:path w="1289" h="1298">
                <a:moveTo>
                  <a:pt x="92" y="0"/>
                </a:moveTo>
                <a:lnTo>
                  <a:pt x="1289" y="146"/>
                </a:lnTo>
                <a:lnTo>
                  <a:pt x="1207" y="1207"/>
                </a:lnTo>
                <a:lnTo>
                  <a:pt x="137" y="1298"/>
                </a:lnTo>
                <a:lnTo>
                  <a:pt x="0" y="1243"/>
                </a:lnTo>
                <a:lnTo>
                  <a:pt x="9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498920" y="2476440"/>
            <a:ext cx="1620720" cy="1600200"/>
            <a:chOff x="4498920" y="2476440"/>
            <a:chExt cx="1620720" cy="1600200"/>
          </a:xfrm>
        </p:grpSpPr>
        <p:sp>
          <p:nvSpPr>
            <p:cNvPr id="257" name=""/>
            <p:cNvSpPr/>
            <p:nvPr/>
          </p:nvSpPr>
          <p:spPr>
            <a:xfrm>
              <a:off x="4498920" y="2476440"/>
              <a:ext cx="1620720" cy="160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b1cfb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04200" y="300996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Tagge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De onde vêm os</a:t>
            </a:r>
            <a:r>
              <a:rPr b="1" lang="pt-BR" sz="2800" spc="-1" strike="noStrike">
                <a:solidFill>
                  <a:srgbClr val="004c00"/>
                </a:solidFill>
                <a:latin typeface="Tempus Sans ITC"/>
              </a:rPr>
              <a:t>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Tagg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187280" y="2220840"/>
            <a:ext cx="7201080" cy="3800520"/>
            <a:chOff x="1187280" y="2220840"/>
            <a:chExt cx="7201080" cy="3800520"/>
          </a:xfrm>
        </p:grpSpPr>
        <p:sp>
          <p:nvSpPr>
            <p:cNvPr id="262" name=""/>
            <p:cNvSpPr/>
            <p:nvPr/>
          </p:nvSpPr>
          <p:spPr>
            <a:xfrm>
              <a:off x="4643280" y="4421160"/>
              <a:ext cx="1366920" cy="15843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x xx x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xx xx x</a:t>
              </a:r>
              <a:br>
                <a:rPr sz="2400"/>
              </a:b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 xxx x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87280" y="4421160"/>
              <a:ext cx="2556000" cy="16002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98600" y="4954680"/>
              <a:ext cx="2315880" cy="45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959595"/>
                  </a:solidFill>
                  <a:latin typeface="Times New Roman"/>
                </a:rPr>
                <a:t>Pré-processado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21440" y="2549520"/>
              <a:ext cx="1366920" cy="15843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x_V</a:t>
              </a:r>
              <a:br>
                <a:rPr sz="2400"/>
              </a:b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xx_N</a:t>
              </a:r>
              <a:br>
                <a:rPr sz="2400"/>
              </a:b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_PREP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13440" y="3052800"/>
              <a:ext cx="1150920" cy="503280"/>
            </a:xfrm>
            <a:custGeom>
              <a:avLst/>
              <a:gdLst>
                <a:gd name="textAreaLeft" fmla="*/ 179640 w 1150920"/>
                <a:gd name="textAreaRight" fmla="*/ 1007280 w 115092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63640" y="2492280"/>
              <a:ext cx="1366920" cy="15843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959595"/>
                  </a:solidFill>
                  <a:latin typeface="Lucida Handwriting"/>
                </a:rPr>
                <a:t>aaa a</a:t>
              </a:r>
              <a:br>
                <a:rPr sz="2400"/>
              </a:br>
              <a:r>
                <a:rPr b="0" lang="pt-BR" sz="2400" spc="-1" strike="noStrike">
                  <a:solidFill>
                    <a:srgbClr val="959595"/>
                  </a:solidFill>
                  <a:latin typeface="Lucida Handwriting"/>
                </a:rPr>
                <a:t>aa aa</a:t>
              </a:r>
              <a:br>
                <a:rPr sz="2400"/>
              </a:br>
              <a:r>
                <a:rPr b="0" lang="pt-BR" sz="2400" spc="-1" strike="noStrike">
                  <a:solidFill>
                    <a:srgbClr val="959595"/>
                  </a:solidFill>
                  <a:latin typeface="Lucida Handwriting"/>
                </a:rPr>
                <a:t>aaaa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4896360" y="3895920"/>
              <a:ext cx="863640" cy="503280"/>
            </a:xfrm>
            <a:custGeom>
              <a:avLst/>
              <a:gdLst>
                <a:gd name="textAreaLeft" fmla="*/ 135000 w 863640"/>
                <a:gd name="textAreaRight" fmla="*/ 756000 w 86364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35280" y="4941720"/>
              <a:ext cx="1150920" cy="503280"/>
            </a:xfrm>
            <a:custGeom>
              <a:avLst/>
              <a:gdLst>
                <a:gd name="textAreaLeft" fmla="*/ 179640 w 1150920"/>
                <a:gd name="textAreaRight" fmla="*/ 1007280 w 115092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5400000">
              <a:off x="2016720" y="4113720"/>
              <a:ext cx="863640" cy="503280"/>
            </a:xfrm>
            <a:custGeom>
              <a:avLst/>
              <a:gdLst>
                <a:gd name="textAreaLeft" fmla="*/ 135000 w 863640"/>
                <a:gd name="textAreaRight" fmla="*/ 756000 w 86364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81480" y="2220840"/>
              <a:ext cx="2046240" cy="2060640"/>
            </a:xfrm>
            <a:custGeom>
              <a:avLst/>
              <a:gdLst/>
              <a:ahLst/>
              <a:rect l="l" t="t" r="r" b="b"/>
              <a:pathLst>
                <a:path w="1289" h="1298">
                  <a:moveTo>
                    <a:pt x="92" y="0"/>
                  </a:moveTo>
                  <a:lnTo>
                    <a:pt x="1289" y="146"/>
                  </a:lnTo>
                  <a:lnTo>
                    <a:pt x="1207" y="1207"/>
                  </a:lnTo>
                  <a:lnTo>
                    <a:pt x="137" y="1298"/>
                  </a:lnTo>
                  <a:lnTo>
                    <a:pt x="0" y="1243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4498920" y="2476440"/>
              <a:ext cx="1620720" cy="1600200"/>
              <a:chOff x="4498920" y="2476440"/>
              <a:chExt cx="1620720" cy="1600200"/>
            </a:xfrm>
          </p:grpSpPr>
          <p:sp>
            <p:nvSpPr>
              <p:cNvPr id="273" name=""/>
              <p:cNvSpPr/>
              <p:nvPr/>
            </p:nvSpPr>
            <p:spPr>
              <a:xfrm>
                <a:off x="4498920" y="2476440"/>
                <a:ext cx="1620720" cy="1600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6600"/>
                  </a:gs>
                  <a:gs pos="100000">
                    <a:srgbClr val="b1cfb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04200" y="3009960"/>
                <a:ext cx="111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ffff"/>
                    </a:solidFill>
                    <a:latin typeface="Times New Roman"/>
                  </a:rPr>
                  <a:t>Tagger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De onde vêm os</a:t>
            </a:r>
            <a:r>
              <a:rPr b="1" lang="pt-BR" sz="2800" spc="-1" strike="noStrike">
                <a:solidFill>
                  <a:srgbClr val="004c00"/>
                </a:solidFill>
                <a:latin typeface="Tempus Sans ITC"/>
              </a:rPr>
              <a:t>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Tagg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187280" y="2220840"/>
            <a:ext cx="7201080" cy="3800520"/>
            <a:chOff x="1187280" y="2220840"/>
            <a:chExt cx="7201080" cy="3800520"/>
          </a:xfrm>
        </p:grpSpPr>
        <p:sp>
          <p:nvSpPr>
            <p:cNvPr id="278" name=""/>
            <p:cNvSpPr/>
            <p:nvPr/>
          </p:nvSpPr>
          <p:spPr>
            <a:xfrm>
              <a:off x="4643280" y="4421160"/>
              <a:ext cx="1366920" cy="15843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x xx x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xx xx x</a:t>
              </a:r>
              <a:br>
                <a:rPr sz="2400"/>
              </a:b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 xxx x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87280" y="4421160"/>
              <a:ext cx="2556000" cy="16002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98600" y="4954680"/>
              <a:ext cx="2315880" cy="45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959595"/>
                  </a:solidFill>
                  <a:latin typeface="Times New Roman"/>
                </a:rPr>
                <a:t>Pré-processado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21440" y="2549520"/>
              <a:ext cx="1366920" cy="15843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x_V</a:t>
              </a:r>
              <a:br>
                <a:rPr sz="2400"/>
              </a:b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xx_N</a:t>
              </a:r>
              <a:br>
                <a:rPr sz="2400"/>
              </a:b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_PREP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13440" y="3052800"/>
              <a:ext cx="1150920" cy="503280"/>
            </a:xfrm>
            <a:custGeom>
              <a:avLst/>
              <a:gdLst>
                <a:gd name="textAreaLeft" fmla="*/ 179640 w 1150920"/>
                <a:gd name="textAreaRight" fmla="*/ 1007280 w 115092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63640" y="2492280"/>
              <a:ext cx="1366920" cy="15843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959595"/>
                  </a:solidFill>
                  <a:latin typeface="Lucida Handwriting"/>
                </a:rPr>
                <a:t>aaa a</a:t>
              </a:r>
              <a:br>
                <a:rPr sz="2400"/>
              </a:br>
              <a:r>
                <a:rPr b="0" lang="pt-BR" sz="2400" spc="-1" strike="noStrike">
                  <a:solidFill>
                    <a:srgbClr val="959595"/>
                  </a:solidFill>
                  <a:latin typeface="Lucida Handwriting"/>
                </a:rPr>
                <a:t>aa aa</a:t>
              </a:r>
              <a:br>
                <a:rPr sz="2400"/>
              </a:br>
              <a:r>
                <a:rPr b="0" lang="pt-BR" sz="2400" spc="-1" strike="noStrike">
                  <a:solidFill>
                    <a:srgbClr val="959595"/>
                  </a:solidFill>
                  <a:latin typeface="Lucida Handwriting"/>
                </a:rPr>
                <a:t>aaaa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6200000">
              <a:off x="4896360" y="3895920"/>
              <a:ext cx="863640" cy="503280"/>
            </a:xfrm>
            <a:custGeom>
              <a:avLst/>
              <a:gdLst>
                <a:gd name="textAreaLeft" fmla="*/ 135000 w 863640"/>
                <a:gd name="textAreaRight" fmla="*/ 756000 w 86364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35280" y="4941720"/>
              <a:ext cx="1150920" cy="503280"/>
            </a:xfrm>
            <a:custGeom>
              <a:avLst/>
              <a:gdLst>
                <a:gd name="textAreaLeft" fmla="*/ 179640 w 1150920"/>
                <a:gd name="textAreaRight" fmla="*/ 1007280 w 115092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5400000">
              <a:off x="2016720" y="4113720"/>
              <a:ext cx="863640" cy="503280"/>
            </a:xfrm>
            <a:custGeom>
              <a:avLst/>
              <a:gdLst>
                <a:gd name="textAreaLeft" fmla="*/ 135000 w 863640"/>
                <a:gd name="textAreaRight" fmla="*/ 756000 w 86364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81480" y="2220840"/>
              <a:ext cx="2046240" cy="2060640"/>
            </a:xfrm>
            <a:custGeom>
              <a:avLst/>
              <a:gdLst/>
              <a:ahLst/>
              <a:rect l="l" t="t" r="r" b="b"/>
              <a:pathLst>
                <a:path w="1289" h="1298">
                  <a:moveTo>
                    <a:pt x="92" y="0"/>
                  </a:moveTo>
                  <a:lnTo>
                    <a:pt x="1289" y="146"/>
                  </a:lnTo>
                  <a:lnTo>
                    <a:pt x="1207" y="1207"/>
                  </a:lnTo>
                  <a:lnTo>
                    <a:pt x="137" y="1298"/>
                  </a:lnTo>
                  <a:lnTo>
                    <a:pt x="0" y="1243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4498920" y="2476440"/>
              <a:ext cx="1620720" cy="1600200"/>
              <a:chOff x="4498920" y="2476440"/>
              <a:chExt cx="1620720" cy="1600200"/>
            </a:xfrm>
          </p:grpSpPr>
          <p:sp>
            <p:nvSpPr>
              <p:cNvPr id="289" name=""/>
              <p:cNvSpPr/>
              <p:nvPr/>
            </p:nvSpPr>
            <p:spPr>
              <a:xfrm>
                <a:off x="4498920" y="2476440"/>
                <a:ext cx="1620720" cy="1600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6600"/>
                  </a:gs>
                  <a:gs pos="100000">
                    <a:srgbClr val="b1cfb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804200" y="3009960"/>
                <a:ext cx="111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ffff"/>
                    </a:solidFill>
                    <a:latin typeface="Times New Roman"/>
                  </a:rPr>
                  <a:t>Tagger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" name=""/>
          <p:cNvGrpSpPr/>
          <p:nvPr/>
        </p:nvGrpSpPr>
        <p:grpSpPr>
          <a:xfrm>
            <a:off x="2271600" y="3968640"/>
            <a:ext cx="6045120" cy="1962720"/>
            <a:chOff x="2271600" y="3968640"/>
            <a:chExt cx="6045120" cy="1962720"/>
          </a:xfrm>
        </p:grpSpPr>
        <p:cxnSp>
          <p:nvCxnSpPr>
            <p:cNvPr id="292" name="_s155668"/>
            <p:cNvCxnSpPr>
              <a:stCxn id="293" idx="0"/>
              <a:endCxn id="294" idx="2"/>
            </p:cNvCxnSpPr>
            <p:nvPr/>
          </p:nvCxnSpPr>
          <p:spPr>
            <a:xfrm flipV="1" rot="16200000">
              <a:off x="6486120" y="4776840"/>
              <a:ext cx="180000" cy="128304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95" name="_s155669"/>
            <p:cNvCxnSpPr>
              <a:stCxn id="296" idx="0"/>
              <a:endCxn id="294" idx="2"/>
            </p:cNvCxnSpPr>
            <p:nvPr/>
          </p:nvCxnSpPr>
          <p:spPr>
            <a:xfrm flipH="1" flipV="1" rot="5400000">
              <a:off x="5203800" y="4777200"/>
              <a:ext cx="180000" cy="128268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97" name="_s155670"/>
            <p:cNvCxnSpPr>
              <a:stCxn id="294" idx="0"/>
              <a:endCxn id="298" idx="2"/>
            </p:cNvCxnSpPr>
            <p:nvPr/>
          </p:nvCxnSpPr>
          <p:spPr>
            <a:xfrm flipV="1" rot="16200000">
              <a:off x="5525640" y="4160880"/>
              <a:ext cx="180000" cy="63936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99" name="_s155671"/>
            <p:cNvCxnSpPr>
              <a:stCxn id="300" idx="0"/>
              <a:endCxn id="298" idx="2"/>
            </p:cNvCxnSpPr>
            <p:nvPr/>
          </p:nvCxnSpPr>
          <p:spPr>
            <a:xfrm flipH="1" flipV="1" rot="5400000">
              <a:off x="4243320" y="3517560"/>
              <a:ext cx="180000" cy="192636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298" name="_s155672"/>
            <p:cNvSpPr/>
            <p:nvPr/>
          </p:nvSpPr>
          <p:spPr>
            <a:xfrm>
              <a:off x="4197240" y="3968640"/>
              <a:ext cx="2195640" cy="4226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0" name="_s155673"/>
            <p:cNvSpPr/>
            <p:nvPr/>
          </p:nvSpPr>
          <p:spPr>
            <a:xfrm>
              <a:off x="2271600" y="4570920"/>
              <a:ext cx="2198160" cy="7578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66"/>
                  </a:solidFill>
                  <a:latin typeface="Times New Roman"/>
                </a:rPr>
                <a:t>codificação</a:t>
              </a:r>
              <a:br>
                <a:rPr sz="1700"/>
              </a:br>
              <a:r>
                <a:rPr b="0" lang="pt-BR" sz="1700" spc="-1" strike="noStrike">
                  <a:solidFill>
                    <a:srgbClr val="003366"/>
                  </a:solidFill>
                  <a:latin typeface="Times New Roman"/>
                </a:rPr>
                <a:t>manual</a:t>
              </a:r>
              <a:endParaRPr b="0" lang="en-US" sz="17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4" name="_s155674"/>
            <p:cNvSpPr/>
            <p:nvPr/>
          </p:nvSpPr>
          <p:spPr>
            <a:xfrm>
              <a:off x="4835880" y="4570920"/>
              <a:ext cx="2198160" cy="7578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6" name="_s155675"/>
            <p:cNvSpPr/>
            <p:nvPr/>
          </p:nvSpPr>
          <p:spPr>
            <a:xfrm>
              <a:off x="3553920" y="5508720"/>
              <a:ext cx="2198160" cy="42264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66"/>
                  </a:solidFill>
                  <a:latin typeface="Times New Roman"/>
                </a:rPr>
                <a:t>não-supervisionado</a:t>
              </a:r>
              <a:endParaRPr b="0" lang="en-US" sz="17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3" name="_s155676"/>
            <p:cNvSpPr/>
            <p:nvPr/>
          </p:nvSpPr>
          <p:spPr>
            <a:xfrm>
              <a:off x="6118560" y="5508720"/>
              <a:ext cx="2198160" cy="42264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De onde vêm os</a:t>
            </a:r>
            <a:r>
              <a:rPr b="1" lang="pt-BR" sz="2800" spc="-1" strike="noStrike">
                <a:solidFill>
                  <a:srgbClr val="004c00"/>
                </a:solidFill>
                <a:latin typeface="Tempus Sans ITC"/>
              </a:rPr>
              <a:t>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Tagg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187280" y="2220840"/>
            <a:ext cx="7201080" cy="3800520"/>
            <a:chOff x="1187280" y="2220840"/>
            <a:chExt cx="7201080" cy="3800520"/>
          </a:xfrm>
        </p:grpSpPr>
        <p:sp>
          <p:nvSpPr>
            <p:cNvPr id="304" name=""/>
            <p:cNvSpPr/>
            <p:nvPr/>
          </p:nvSpPr>
          <p:spPr>
            <a:xfrm>
              <a:off x="4643280" y="4421160"/>
              <a:ext cx="1366920" cy="15843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x xx x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xx xx x</a:t>
              </a:r>
              <a:br>
                <a:rPr sz="2400"/>
              </a:b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 xxx x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87280" y="4421160"/>
              <a:ext cx="2556000" cy="16002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98600" y="4954680"/>
              <a:ext cx="2315880" cy="45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959595"/>
                  </a:solidFill>
                  <a:latin typeface="Times New Roman"/>
                </a:rPr>
                <a:t>Pré-processado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21440" y="2549520"/>
              <a:ext cx="1366920" cy="15843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x_V</a:t>
              </a:r>
              <a:br>
                <a:rPr sz="2400"/>
              </a:b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xx_N</a:t>
              </a:r>
              <a:br>
                <a:rPr sz="2400"/>
              </a:b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_PREP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13440" y="3052800"/>
              <a:ext cx="1150920" cy="503280"/>
            </a:xfrm>
            <a:custGeom>
              <a:avLst/>
              <a:gdLst>
                <a:gd name="textAreaLeft" fmla="*/ 179640 w 1150920"/>
                <a:gd name="textAreaRight" fmla="*/ 1007280 w 115092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63640" y="2492280"/>
              <a:ext cx="1366920" cy="15843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959595"/>
                  </a:solidFill>
                  <a:latin typeface="Lucida Handwriting"/>
                </a:rPr>
                <a:t>aaa a</a:t>
              </a:r>
              <a:br>
                <a:rPr sz="2400"/>
              </a:br>
              <a:r>
                <a:rPr b="0" lang="pt-BR" sz="2400" spc="-1" strike="noStrike">
                  <a:solidFill>
                    <a:srgbClr val="959595"/>
                  </a:solidFill>
                  <a:latin typeface="Lucida Handwriting"/>
                </a:rPr>
                <a:t>aa aa</a:t>
              </a:r>
              <a:br>
                <a:rPr sz="2400"/>
              </a:br>
              <a:r>
                <a:rPr b="0" lang="pt-BR" sz="2400" spc="-1" strike="noStrike">
                  <a:solidFill>
                    <a:srgbClr val="959595"/>
                  </a:solidFill>
                  <a:latin typeface="Lucida Handwriting"/>
                </a:rPr>
                <a:t>aaaa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6200000">
              <a:off x="4896360" y="3895920"/>
              <a:ext cx="863640" cy="503280"/>
            </a:xfrm>
            <a:custGeom>
              <a:avLst/>
              <a:gdLst>
                <a:gd name="textAreaLeft" fmla="*/ 135000 w 863640"/>
                <a:gd name="textAreaRight" fmla="*/ 756000 w 86364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635280" y="4941720"/>
              <a:ext cx="1150920" cy="503280"/>
            </a:xfrm>
            <a:custGeom>
              <a:avLst/>
              <a:gdLst>
                <a:gd name="textAreaLeft" fmla="*/ 179640 w 1150920"/>
                <a:gd name="textAreaRight" fmla="*/ 1007280 w 115092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5400000">
              <a:off x="2016720" y="4113720"/>
              <a:ext cx="863640" cy="503280"/>
            </a:xfrm>
            <a:custGeom>
              <a:avLst/>
              <a:gdLst>
                <a:gd name="textAreaLeft" fmla="*/ 135000 w 863640"/>
                <a:gd name="textAreaRight" fmla="*/ 756000 w 86364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81480" y="2220840"/>
              <a:ext cx="2046240" cy="2060640"/>
            </a:xfrm>
            <a:custGeom>
              <a:avLst/>
              <a:gdLst/>
              <a:ahLst/>
              <a:rect l="l" t="t" r="r" b="b"/>
              <a:pathLst>
                <a:path w="1289" h="1298">
                  <a:moveTo>
                    <a:pt x="92" y="0"/>
                  </a:moveTo>
                  <a:lnTo>
                    <a:pt x="1289" y="146"/>
                  </a:lnTo>
                  <a:lnTo>
                    <a:pt x="1207" y="1207"/>
                  </a:lnTo>
                  <a:lnTo>
                    <a:pt x="137" y="1298"/>
                  </a:lnTo>
                  <a:lnTo>
                    <a:pt x="0" y="1243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4498920" y="2476440"/>
              <a:ext cx="1620720" cy="1600200"/>
              <a:chOff x="4498920" y="2476440"/>
              <a:chExt cx="1620720" cy="1600200"/>
            </a:xfrm>
          </p:grpSpPr>
          <p:sp>
            <p:nvSpPr>
              <p:cNvPr id="315" name=""/>
              <p:cNvSpPr/>
              <p:nvPr/>
            </p:nvSpPr>
            <p:spPr>
              <a:xfrm>
                <a:off x="4498920" y="2476440"/>
                <a:ext cx="1620720" cy="1600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6600"/>
                  </a:gs>
                  <a:gs pos="100000">
                    <a:srgbClr val="b1cfb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804200" y="3009960"/>
                <a:ext cx="111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ffff"/>
                    </a:solidFill>
                    <a:latin typeface="Times New Roman"/>
                  </a:rPr>
                  <a:t>Tagger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7" name=""/>
          <p:cNvGrpSpPr/>
          <p:nvPr/>
        </p:nvGrpSpPr>
        <p:grpSpPr>
          <a:xfrm>
            <a:off x="2271600" y="3968640"/>
            <a:ext cx="6045120" cy="1962720"/>
            <a:chOff x="2271600" y="3968640"/>
            <a:chExt cx="6045120" cy="1962720"/>
          </a:xfrm>
        </p:grpSpPr>
        <p:cxnSp>
          <p:nvCxnSpPr>
            <p:cNvPr id="318" name="_s157716"/>
            <p:cNvCxnSpPr>
              <a:stCxn id="319" idx="0"/>
              <a:endCxn id="320" idx="2"/>
            </p:cNvCxnSpPr>
            <p:nvPr/>
          </p:nvCxnSpPr>
          <p:spPr>
            <a:xfrm flipV="1" rot="16200000">
              <a:off x="6486120" y="4776840"/>
              <a:ext cx="180000" cy="128304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321" name="_s157717"/>
            <p:cNvCxnSpPr>
              <a:stCxn id="322" idx="0"/>
              <a:endCxn id="320" idx="2"/>
            </p:cNvCxnSpPr>
            <p:nvPr/>
          </p:nvCxnSpPr>
          <p:spPr>
            <a:xfrm flipH="1" flipV="1" rot="5400000">
              <a:off x="5203800" y="4777200"/>
              <a:ext cx="180000" cy="128268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323" name="_s157718"/>
            <p:cNvCxnSpPr>
              <a:stCxn id="320" idx="0"/>
              <a:endCxn id="324" idx="2"/>
            </p:cNvCxnSpPr>
            <p:nvPr/>
          </p:nvCxnSpPr>
          <p:spPr>
            <a:xfrm flipV="1" rot="16200000">
              <a:off x="5525640" y="4160880"/>
              <a:ext cx="180000" cy="63936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325" name="_s157719"/>
            <p:cNvCxnSpPr>
              <a:stCxn id="326" idx="0"/>
              <a:endCxn id="324" idx="2"/>
            </p:cNvCxnSpPr>
            <p:nvPr/>
          </p:nvCxnSpPr>
          <p:spPr>
            <a:xfrm flipH="1" flipV="1" rot="5400000">
              <a:off x="4243320" y="3517560"/>
              <a:ext cx="180000" cy="192636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324" name="_s157720"/>
            <p:cNvSpPr/>
            <p:nvPr/>
          </p:nvSpPr>
          <p:spPr>
            <a:xfrm>
              <a:off x="4197240" y="3968640"/>
              <a:ext cx="2195640" cy="4226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_s157721"/>
            <p:cNvSpPr/>
            <p:nvPr/>
          </p:nvSpPr>
          <p:spPr>
            <a:xfrm>
              <a:off x="2271600" y="4570920"/>
              <a:ext cx="2198160" cy="757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66"/>
                  </a:solidFill>
                  <a:latin typeface="Times New Roman"/>
                </a:rPr>
                <a:t>codificação</a:t>
              </a:r>
              <a:br>
                <a:rPr sz="1700"/>
              </a:br>
              <a:r>
                <a:rPr b="0" lang="pt-BR" sz="1700" spc="-1" strike="noStrike">
                  <a:solidFill>
                    <a:srgbClr val="003366"/>
                  </a:solidFill>
                  <a:latin typeface="Times New Roman"/>
                </a:rPr>
                <a:t>manual</a:t>
              </a:r>
              <a:endParaRPr b="0" lang="en-US" sz="17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_s157722"/>
            <p:cNvSpPr/>
            <p:nvPr/>
          </p:nvSpPr>
          <p:spPr>
            <a:xfrm>
              <a:off x="4835880" y="4570920"/>
              <a:ext cx="2198160" cy="7578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_s157723"/>
            <p:cNvSpPr/>
            <p:nvPr/>
          </p:nvSpPr>
          <p:spPr>
            <a:xfrm>
              <a:off x="3553920" y="5508720"/>
              <a:ext cx="2198160" cy="42264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66"/>
                  </a:solidFill>
                  <a:latin typeface="Times New Roman"/>
                </a:rPr>
                <a:t>não-supervisionado</a:t>
              </a:r>
              <a:endParaRPr b="0" lang="en-US" sz="17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_s157724"/>
            <p:cNvSpPr/>
            <p:nvPr/>
          </p:nvSpPr>
          <p:spPr>
            <a:xfrm>
              <a:off x="6118560" y="5508720"/>
              <a:ext cx="2198160" cy="42264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De onde vêm os</a:t>
            </a:r>
            <a:r>
              <a:rPr b="1" lang="pt-BR" sz="2800" spc="-1" strike="noStrike">
                <a:solidFill>
                  <a:srgbClr val="004c00"/>
                </a:solidFill>
                <a:latin typeface="Tempus Sans ITC"/>
              </a:rPr>
              <a:t>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Tagg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187280" y="2220840"/>
            <a:ext cx="7201080" cy="3800520"/>
            <a:chOff x="1187280" y="2220840"/>
            <a:chExt cx="7201080" cy="3800520"/>
          </a:xfrm>
        </p:grpSpPr>
        <p:sp>
          <p:nvSpPr>
            <p:cNvPr id="330" name=""/>
            <p:cNvSpPr/>
            <p:nvPr/>
          </p:nvSpPr>
          <p:spPr>
            <a:xfrm>
              <a:off x="4643280" y="4421160"/>
              <a:ext cx="1366920" cy="15843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x xx x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xx xx x</a:t>
              </a:r>
              <a:br>
                <a:rPr sz="2400"/>
              </a:b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 xxx x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87280" y="4421160"/>
              <a:ext cx="2556000" cy="16002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98600" y="4954680"/>
              <a:ext cx="2315880" cy="45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959595"/>
                  </a:solidFill>
                  <a:latin typeface="Times New Roman"/>
                </a:rPr>
                <a:t>Pré-processado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21440" y="2549520"/>
              <a:ext cx="1366920" cy="15843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x_V</a:t>
              </a:r>
              <a:br>
                <a:rPr sz="2400"/>
              </a:b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xx_N</a:t>
              </a:r>
              <a:br>
                <a:rPr sz="2400"/>
              </a:br>
              <a:r>
                <a:rPr b="0" lang="pt-BR" sz="2400" spc="-1" strike="noStrike">
                  <a:solidFill>
                    <a:srgbClr val="959595"/>
                  </a:solidFill>
                  <a:latin typeface="Times New Roman"/>
                </a:rPr>
                <a:t>xx_PREP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13440" y="3052800"/>
              <a:ext cx="1150920" cy="503280"/>
            </a:xfrm>
            <a:custGeom>
              <a:avLst/>
              <a:gdLst>
                <a:gd name="textAreaLeft" fmla="*/ 179640 w 1150920"/>
                <a:gd name="textAreaRight" fmla="*/ 1007280 w 115092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63640" y="2492280"/>
              <a:ext cx="1366920" cy="15843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959595"/>
                  </a:solidFill>
                  <a:latin typeface="Lucida Handwriting"/>
                </a:rPr>
                <a:t>aaa a</a:t>
              </a:r>
              <a:br>
                <a:rPr sz="2400"/>
              </a:br>
              <a:r>
                <a:rPr b="0" lang="pt-BR" sz="2400" spc="-1" strike="noStrike">
                  <a:solidFill>
                    <a:srgbClr val="959595"/>
                  </a:solidFill>
                  <a:latin typeface="Lucida Handwriting"/>
                </a:rPr>
                <a:t>aa aa</a:t>
              </a:r>
              <a:br>
                <a:rPr sz="2400"/>
              </a:br>
              <a:r>
                <a:rPr b="0" lang="pt-BR" sz="2400" spc="-1" strike="noStrike">
                  <a:solidFill>
                    <a:srgbClr val="959595"/>
                  </a:solidFill>
                  <a:latin typeface="Lucida Handwriting"/>
                </a:rPr>
                <a:t>aaaa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6200000">
              <a:off x="4896360" y="3895920"/>
              <a:ext cx="863640" cy="503280"/>
            </a:xfrm>
            <a:custGeom>
              <a:avLst/>
              <a:gdLst>
                <a:gd name="textAreaLeft" fmla="*/ 135000 w 863640"/>
                <a:gd name="textAreaRight" fmla="*/ 756000 w 86364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35280" y="4941720"/>
              <a:ext cx="1150920" cy="503280"/>
            </a:xfrm>
            <a:custGeom>
              <a:avLst/>
              <a:gdLst>
                <a:gd name="textAreaLeft" fmla="*/ 179640 w 1150920"/>
                <a:gd name="textAreaRight" fmla="*/ 1007280 w 115092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2016720" y="4113720"/>
              <a:ext cx="863640" cy="503280"/>
            </a:xfrm>
            <a:custGeom>
              <a:avLst/>
              <a:gdLst>
                <a:gd name="textAreaLeft" fmla="*/ 135000 w 863640"/>
                <a:gd name="textAreaRight" fmla="*/ 756000 w 86364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0c0c0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81480" y="2220840"/>
              <a:ext cx="2046240" cy="2060640"/>
            </a:xfrm>
            <a:custGeom>
              <a:avLst/>
              <a:gdLst/>
              <a:ahLst/>
              <a:rect l="l" t="t" r="r" b="b"/>
              <a:pathLst>
                <a:path w="1289" h="1298">
                  <a:moveTo>
                    <a:pt x="92" y="0"/>
                  </a:moveTo>
                  <a:lnTo>
                    <a:pt x="1289" y="146"/>
                  </a:lnTo>
                  <a:lnTo>
                    <a:pt x="1207" y="1207"/>
                  </a:lnTo>
                  <a:lnTo>
                    <a:pt x="137" y="1298"/>
                  </a:lnTo>
                  <a:lnTo>
                    <a:pt x="0" y="1243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498920" y="2476440"/>
              <a:ext cx="1620720" cy="1600200"/>
              <a:chOff x="4498920" y="2476440"/>
              <a:chExt cx="1620720" cy="1600200"/>
            </a:xfrm>
          </p:grpSpPr>
          <p:sp>
            <p:nvSpPr>
              <p:cNvPr id="341" name=""/>
              <p:cNvSpPr/>
              <p:nvPr/>
            </p:nvSpPr>
            <p:spPr>
              <a:xfrm>
                <a:off x="4498920" y="2476440"/>
                <a:ext cx="1620720" cy="1600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6600"/>
                  </a:gs>
                  <a:gs pos="100000">
                    <a:srgbClr val="b1cfb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804200" y="3009960"/>
                <a:ext cx="111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ffff"/>
                    </a:solidFill>
                    <a:latin typeface="Times New Roman"/>
                  </a:rPr>
                  <a:t>Tagger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3" name=""/>
          <p:cNvGrpSpPr/>
          <p:nvPr/>
        </p:nvGrpSpPr>
        <p:grpSpPr>
          <a:xfrm>
            <a:off x="2271600" y="3968640"/>
            <a:ext cx="6045120" cy="1962720"/>
            <a:chOff x="2271600" y="3968640"/>
            <a:chExt cx="6045120" cy="1962720"/>
          </a:xfrm>
        </p:grpSpPr>
        <p:cxnSp>
          <p:nvCxnSpPr>
            <p:cNvPr id="344" name="_s159764"/>
            <p:cNvCxnSpPr>
              <a:stCxn id="345" idx="0"/>
              <a:endCxn id="346" idx="2"/>
            </p:cNvCxnSpPr>
            <p:nvPr/>
          </p:nvCxnSpPr>
          <p:spPr>
            <a:xfrm flipV="1" rot="16200000">
              <a:off x="6486120" y="4776840"/>
              <a:ext cx="180000" cy="128304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347" name="_s159765"/>
            <p:cNvCxnSpPr>
              <a:stCxn id="348" idx="0"/>
              <a:endCxn id="346" idx="2"/>
            </p:cNvCxnSpPr>
            <p:nvPr/>
          </p:nvCxnSpPr>
          <p:spPr>
            <a:xfrm flipH="1" flipV="1" rot="5400000">
              <a:off x="5203800" y="4777200"/>
              <a:ext cx="180000" cy="128268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349" name="_s159766"/>
            <p:cNvCxnSpPr>
              <a:stCxn id="346" idx="0"/>
              <a:endCxn id="350" idx="2"/>
            </p:cNvCxnSpPr>
            <p:nvPr/>
          </p:nvCxnSpPr>
          <p:spPr>
            <a:xfrm flipV="1" rot="16200000">
              <a:off x="5525640" y="4160880"/>
              <a:ext cx="180000" cy="63936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351" name="_s159767"/>
            <p:cNvCxnSpPr>
              <a:stCxn id="352" idx="0"/>
              <a:endCxn id="350" idx="2"/>
            </p:cNvCxnSpPr>
            <p:nvPr/>
          </p:nvCxnSpPr>
          <p:spPr>
            <a:xfrm flipH="1" flipV="1" rot="5400000">
              <a:off x="4243320" y="3517560"/>
              <a:ext cx="180000" cy="192636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350" name="_s159768"/>
            <p:cNvSpPr/>
            <p:nvPr/>
          </p:nvSpPr>
          <p:spPr>
            <a:xfrm>
              <a:off x="4197240" y="3968640"/>
              <a:ext cx="2195640" cy="4226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2" name="_s159769"/>
            <p:cNvSpPr/>
            <p:nvPr/>
          </p:nvSpPr>
          <p:spPr>
            <a:xfrm>
              <a:off x="2271600" y="4570920"/>
              <a:ext cx="2198160" cy="757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66"/>
                  </a:solidFill>
                  <a:latin typeface="Times New Roman"/>
                </a:rPr>
                <a:t>codificação</a:t>
              </a:r>
              <a:br>
                <a:rPr sz="1700"/>
              </a:br>
              <a:r>
                <a:rPr b="0" lang="pt-BR" sz="1700" spc="-1" strike="noStrike">
                  <a:solidFill>
                    <a:srgbClr val="003366"/>
                  </a:solidFill>
                  <a:latin typeface="Times New Roman"/>
                </a:rPr>
                <a:t>manual</a:t>
              </a:r>
              <a:endParaRPr b="0" lang="en-US" sz="17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" name="_s159770"/>
            <p:cNvSpPr/>
            <p:nvPr/>
          </p:nvSpPr>
          <p:spPr>
            <a:xfrm>
              <a:off x="4835880" y="4570920"/>
              <a:ext cx="2198160" cy="7578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8" name="_s159771"/>
            <p:cNvSpPr/>
            <p:nvPr/>
          </p:nvSpPr>
          <p:spPr>
            <a:xfrm>
              <a:off x="3553920" y="5508720"/>
              <a:ext cx="219816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3366"/>
                  </a:solidFill>
                  <a:latin typeface="Times New Roman"/>
                </a:rPr>
                <a:t>não-supervisionado</a:t>
              </a:r>
              <a:endParaRPr b="0" lang="en-US" sz="17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" name="_s159772"/>
            <p:cNvSpPr/>
            <p:nvPr/>
          </p:nvSpPr>
          <p:spPr>
            <a:xfrm>
              <a:off x="6118560" y="5508720"/>
              <a:ext cx="2198160" cy="4226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De onde vêm os</a:t>
            </a:r>
            <a:r>
              <a:rPr b="1" lang="pt-BR" sz="2800" spc="-1" strike="noStrike">
                <a:solidFill>
                  <a:srgbClr val="004c00"/>
                </a:solidFill>
                <a:latin typeface="Tempus Sans ITC"/>
              </a:rPr>
              <a:t>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Tagg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6526080" y="152280"/>
            <a:ext cx="2438280" cy="1962720"/>
            <a:chOff x="6526080" y="152280"/>
            <a:chExt cx="2438280" cy="1962720"/>
          </a:xfrm>
        </p:grpSpPr>
        <p:cxnSp>
          <p:nvCxnSpPr>
            <p:cNvPr id="356" name="_s161812"/>
            <p:cNvCxnSpPr>
              <a:stCxn id="357" idx="0"/>
              <a:endCxn id="358" idx="2"/>
            </p:cNvCxnSpPr>
            <p:nvPr/>
          </p:nvCxnSpPr>
          <p:spPr>
            <a:xfrm flipV="1" rot="16200000">
              <a:off x="7656480" y="160020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359" name="_s161814"/>
            <p:cNvCxnSpPr>
              <a:stCxn id="358" idx="0"/>
              <a:endCxn id="360" idx="2"/>
            </p:cNvCxnSpPr>
            <p:nvPr/>
          </p:nvCxnSpPr>
          <p:spPr>
            <a:xfrm flipH="1" flipV="1" rot="5400000">
              <a:off x="7656480" y="66276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360" name="_s161816"/>
            <p:cNvSpPr/>
            <p:nvPr/>
          </p:nvSpPr>
          <p:spPr>
            <a:xfrm>
              <a:off x="6528960" y="152280"/>
              <a:ext cx="243504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8" name="_s161818"/>
            <p:cNvSpPr/>
            <p:nvPr/>
          </p:nvSpPr>
          <p:spPr>
            <a:xfrm>
              <a:off x="6526080" y="754560"/>
              <a:ext cx="2438280" cy="757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_s161820"/>
            <p:cNvSpPr/>
            <p:nvPr/>
          </p:nvSpPr>
          <p:spPr>
            <a:xfrm>
              <a:off x="6528960" y="1692360"/>
              <a:ext cx="243504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684360" y="3213000"/>
            <a:ext cx="136656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V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N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PRE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60720" y="3139920"/>
            <a:ext cx="2976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100000">
                <a:srgbClr val="b1cfb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650040" y="3500280"/>
            <a:ext cx="18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istema de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prendiza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7021440" y="3139920"/>
            <a:ext cx="1621080" cy="1600200"/>
            <a:chOff x="7021440" y="3139920"/>
            <a:chExt cx="1621080" cy="1600200"/>
          </a:xfrm>
        </p:grpSpPr>
        <p:sp>
          <p:nvSpPr>
            <p:cNvPr id="365" name=""/>
            <p:cNvSpPr/>
            <p:nvPr/>
          </p:nvSpPr>
          <p:spPr>
            <a:xfrm>
              <a:off x="7021440" y="3139920"/>
              <a:ext cx="1621080" cy="160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b1cfb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27080" y="367344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Tagge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869080" y="3716280"/>
            <a:ext cx="1295280" cy="5032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81080" y="3716280"/>
            <a:ext cx="1295640" cy="50328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324000" y="112536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Etiquetação Morfossintát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200400" y="2421000"/>
            <a:ext cx="2705040" cy="2592360"/>
            <a:chOff x="3200400" y="2421000"/>
            <a:chExt cx="2705040" cy="2592360"/>
          </a:xfrm>
        </p:grpSpPr>
        <p:sp>
          <p:nvSpPr>
            <p:cNvPr id="113" name=""/>
            <p:cNvSpPr/>
            <p:nvPr/>
          </p:nvSpPr>
          <p:spPr>
            <a:xfrm>
              <a:off x="3200400" y="2421000"/>
              <a:ext cx="2705040" cy="25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b1cfb1">
                    <a:alpha val="54117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04520" y="2637000"/>
              <a:ext cx="24681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Etiquetado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-----</a:t>
              </a:r>
              <a:br>
                <a:rPr sz="2400"/>
              </a:b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(POS) Tagge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-----</a:t>
              </a:r>
              <a:br>
                <a:rPr sz="2400"/>
              </a:b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Desambigüizado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84360" y="2852640"/>
            <a:ext cx="136656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aa a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a aa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aa 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20000" y="2924280"/>
            <a:ext cx="136692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aa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V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a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N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PRE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342900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342900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De onde vêm os</a:t>
            </a:r>
            <a:r>
              <a:rPr b="1" lang="pt-BR" sz="2800" spc="-1" strike="noStrike">
                <a:solidFill>
                  <a:srgbClr val="004c00"/>
                </a:solidFill>
                <a:latin typeface="Tempus Sans ITC"/>
              </a:rPr>
              <a:t>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Tagg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526080" y="152280"/>
            <a:ext cx="2438280" cy="1962720"/>
            <a:chOff x="6526080" y="152280"/>
            <a:chExt cx="2438280" cy="1962720"/>
          </a:xfrm>
        </p:grpSpPr>
        <p:cxnSp>
          <p:nvCxnSpPr>
            <p:cNvPr id="372" name="_s164870"/>
            <p:cNvCxnSpPr>
              <a:stCxn id="373" idx="0"/>
              <a:endCxn id="374" idx="2"/>
            </p:cNvCxnSpPr>
            <p:nvPr/>
          </p:nvCxnSpPr>
          <p:spPr>
            <a:xfrm flipV="1" rot="16200000">
              <a:off x="7656480" y="160020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375" name="_s164871"/>
            <p:cNvCxnSpPr>
              <a:stCxn id="374" idx="0"/>
              <a:endCxn id="376" idx="2"/>
            </p:cNvCxnSpPr>
            <p:nvPr/>
          </p:nvCxnSpPr>
          <p:spPr>
            <a:xfrm flipH="1" flipV="1" rot="5400000">
              <a:off x="7656480" y="66276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376" name="_s164872"/>
            <p:cNvSpPr/>
            <p:nvPr/>
          </p:nvSpPr>
          <p:spPr>
            <a:xfrm>
              <a:off x="6528960" y="152280"/>
              <a:ext cx="243504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4" name="_s164873"/>
            <p:cNvSpPr/>
            <p:nvPr/>
          </p:nvSpPr>
          <p:spPr>
            <a:xfrm>
              <a:off x="6526080" y="754560"/>
              <a:ext cx="2438280" cy="757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_s164874"/>
            <p:cNvSpPr/>
            <p:nvPr/>
          </p:nvSpPr>
          <p:spPr>
            <a:xfrm>
              <a:off x="6528960" y="1692360"/>
              <a:ext cx="243504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684360" y="3213000"/>
            <a:ext cx="136656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V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N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PRE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60720" y="3139920"/>
            <a:ext cx="2976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100000">
                <a:srgbClr val="b1cfb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0040" y="3500280"/>
            <a:ext cx="18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istema de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prendiza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021440" y="3139920"/>
            <a:ext cx="1621080" cy="1600200"/>
            <a:chOff x="7021440" y="3139920"/>
            <a:chExt cx="1621080" cy="1600200"/>
          </a:xfrm>
        </p:grpSpPr>
        <p:sp>
          <p:nvSpPr>
            <p:cNvPr id="381" name=""/>
            <p:cNvSpPr/>
            <p:nvPr/>
          </p:nvSpPr>
          <p:spPr>
            <a:xfrm>
              <a:off x="7021440" y="3139920"/>
              <a:ext cx="1621080" cy="160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b1cfb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27080" y="367344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Tagge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5869080" y="3716280"/>
            <a:ext cx="1295280" cy="5032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81080" y="3716280"/>
            <a:ext cx="1295640" cy="50328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417000">
            <a:off x="1331640" y="2133360"/>
            <a:ext cx="2233440" cy="936360"/>
          </a:xfrm>
          <a:prstGeom prst="wedgeRectCallout">
            <a:avLst>
              <a:gd name="adj1" fmla="val -42949"/>
              <a:gd name="adj2" fmla="val 109046"/>
            </a:avLst>
          </a:prstGeom>
          <a:solidFill>
            <a:srgbClr val="ffff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corpus de treinamen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De onde vêm os</a:t>
            </a:r>
            <a:r>
              <a:rPr b="1" lang="pt-BR" sz="2800" spc="-1" strike="noStrike">
                <a:solidFill>
                  <a:srgbClr val="004c00"/>
                </a:solidFill>
                <a:latin typeface="Tempus Sans ITC"/>
              </a:rPr>
              <a:t>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Tagg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526080" y="152280"/>
            <a:ext cx="2438280" cy="1962720"/>
            <a:chOff x="6526080" y="152280"/>
            <a:chExt cx="2438280" cy="1962720"/>
          </a:xfrm>
        </p:grpSpPr>
        <p:cxnSp>
          <p:nvCxnSpPr>
            <p:cNvPr id="389" name="_s166918"/>
            <p:cNvCxnSpPr>
              <a:stCxn id="390" idx="0"/>
              <a:endCxn id="391" idx="2"/>
            </p:cNvCxnSpPr>
            <p:nvPr/>
          </p:nvCxnSpPr>
          <p:spPr>
            <a:xfrm flipV="1" rot="16200000">
              <a:off x="7656480" y="160020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392" name="_s166919"/>
            <p:cNvCxnSpPr>
              <a:stCxn id="391" idx="0"/>
              <a:endCxn id="393" idx="2"/>
            </p:cNvCxnSpPr>
            <p:nvPr/>
          </p:nvCxnSpPr>
          <p:spPr>
            <a:xfrm flipH="1" flipV="1" rot="5400000">
              <a:off x="7656480" y="66276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393" name="_s166920"/>
            <p:cNvSpPr/>
            <p:nvPr/>
          </p:nvSpPr>
          <p:spPr>
            <a:xfrm>
              <a:off x="6528960" y="152280"/>
              <a:ext cx="243504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1" name="_s166921"/>
            <p:cNvSpPr/>
            <p:nvPr/>
          </p:nvSpPr>
          <p:spPr>
            <a:xfrm>
              <a:off x="6526080" y="754560"/>
              <a:ext cx="2438280" cy="757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0" name="_s166922"/>
            <p:cNvSpPr/>
            <p:nvPr/>
          </p:nvSpPr>
          <p:spPr>
            <a:xfrm>
              <a:off x="6528960" y="1692360"/>
              <a:ext cx="243504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684360" y="3214800"/>
            <a:ext cx="136656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V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N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PRE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60720" y="3141720"/>
            <a:ext cx="2976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100000">
                <a:srgbClr val="b1cfb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50040" y="3502080"/>
            <a:ext cx="18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istema de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prendiza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7021440" y="3141720"/>
            <a:ext cx="1621080" cy="1600200"/>
            <a:chOff x="7021440" y="3141720"/>
            <a:chExt cx="1621080" cy="1600200"/>
          </a:xfrm>
        </p:grpSpPr>
        <p:sp>
          <p:nvSpPr>
            <p:cNvPr id="398" name=""/>
            <p:cNvSpPr/>
            <p:nvPr/>
          </p:nvSpPr>
          <p:spPr>
            <a:xfrm>
              <a:off x="7021440" y="3141720"/>
              <a:ext cx="1621080" cy="160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b1cfb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327080" y="367524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Tagge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869080" y="3718080"/>
            <a:ext cx="1295280" cy="502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25640 h 502920"/>
              <a:gd name="textAreaBottom" fmla="*/ 377280 h 50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81080" y="3718080"/>
            <a:ext cx="1295640" cy="50292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125640 h 502920"/>
              <a:gd name="textAreaBottom" fmla="*/ 377280 h 50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5157720"/>
            <a:ext cx="9144000" cy="936720"/>
          </a:xfrm>
          <a:custGeom>
            <a:avLst/>
            <a:gdLst>
              <a:gd name="textAreaLeft" fmla="*/ 1428480 w 9144000"/>
              <a:gd name="textAreaRight" fmla="*/ 8742240 w 9144000"/>
              <a:gd name="textAreaTop" fmla="*/ 160200 h 936720"/>
              <a:gd name="textAreaBottom" fmla="*/ 776520 h 936720"/>
            </a:gdLst>
            <a:ahLst/>
            <a:rect l="textAreaLeft" t="textAreaTop" r="textAreaRight" b="textAreaBottom"/>
            <a:pathLst>
              <a:path w="21600" h="21600">
                <a:moveTo>
                  <a:pt x="3375" y="3698"/>
                </a:moveTo>
                <a:lnTo>
                  <a:pt x="20156" y="3698"/>
                </a:lnTo>
                <a:lnTo>
                  <a:pt x="20156" y="0"/>
                </a:lnTo>
                <a:lnTo>
                  <a:pt x="21600" y="10800"/>
                </a:lnTo>
                <a:lnTo>
                  <a:pt x="20156" y="21600"/>
                </a:lnTo>
                <a:lnTo>
                  <a:pt x="20156" y="17902"/>
                </a:lnTo>
                <a:lnTo>
                  <a:pt x="3375" y="17902"/>
                </a:lnTo>
                <a:close/>
              </a:path>
              <a:path w="21600" h="21600">
                <a:moveTo>
                  <a:pt x="0" y="3698"/>
                </a:moveTo>
                <a:lnTo>
                  <a:pt x="675" y="3698"/>
                </a:lnTo>
                <a:lnTo>
                  <a:pt x="675" y="17902"/>
                </a:lnTo>
                <a:lnTo>
                  <a:pt x="0" y="17902"/>
                </a:lnTo>
                <a:close/>
              </a:path>
              <a:path w="21600" h="21600">
                <a:moveTo>
                  <a:pt x="1350" y="3698"/>
                </a:moveTo>
                <a:lnTo>
                  <a:pt x="2700" y="3698"/>
                </a:lnTo>
                <a:lnTo>
                  <a:pt x="2700" y="17902"/>
                </a:lnTo>
                <a:lnTo>
                  <a:pt x="1350" y="17902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TREINAMEN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417000">
            <a:off x="1331640" y="2133360"/>
            <a:ext cx="2233440" cy="936360"/>
          </a:xfrm>
          <a:prstGeom prst="wedgeRectCallout">
            <a:avLst>
              <a:gd name="adj1" fmla="val -42949"/>
              <a:gd name="adj2" fmla="val 109046"/>
            </a:avLst>
          </a:prstGeom>
          <a:solidFill>
            <a:srgbClr val="ffff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corpus de treinamen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De onde vêm os</a:t>
            </a:r>
            <a:r>
              <a:rPr b="1" lang="pt-BR" sz="2800" spc="-1" strike="noStrike">
                <a:solidFill>
                  <a:srgbClr val="004c00"/>
                </a:solidFill>
                <a:latin typeface="Tempus Sans ITC"/>
              </a:rPr>
              <a:t>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Tagg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Problemas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De onde vêm os </a:t>
            </a: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corpora de treinamento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59595"/>
                </a:solidFill>
                <a:latin typeface="Arial"/>
              </a:rPr>
              <a:t>Limitações</a:t>
            </a:r>
            <a:r>
              <a:rPr b="1" lang="pt-BR" sz="2400" spc="-1" strike="noStrike">
                <a:solidFill>
                  <a:srgbClr val="959595"/>
                </a:solidFill>
                <a:latin typeface="Arial"/>
              </a:rPr>
              <a:t> dos sistemas de aprendizad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6516720" y="152280"/>
            <a:ext cx="2437920" cy="1962720"/>
            <a:chOff x="6516720" y="152280"/>
            <a:chExt cx="2437920" cy="1962720"/>
          </a:xfrm>
        </p:grpSpPr>
        <p:cxnSp>
          <p:nvCxnSpPr>
            <p:cNvPr id="408" name="_s168966"/>
            <p:cNvCxnSpPr>
              <a:stCxn id="409" idx="0"/>
              <a:endCxn id="410" idx="2"/>
            </p:cNvCxnSpPr>
            <p:nvPr/>
          </p:nvCxnSpPr>
          <p:spPr>
            <a:xfrm flipV="1" rot="16200000">
              <a:off x="7647120" y="160020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411" name="_s168967"/>
            <p:cNvCxnSpPr>
              <a:stCxn id="410" idx="0"/>
              <a:endCxn id="412" idx="2"/>
            </p:cNvCxnSpPr>
            <p:nvPr/>
          </p:nvCxnSpPr>
          <p:spPr>
            <a:xfrm flipH="1" flipV="1" rot="5400000">
              <a:off x="7647120" y="66276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412" name="_s168968"/>
            <p:cNvSpPr/>
            <p:nvPr/>
          </p:nvSpPr>
          <p:spPr>
            <a:xfrm>
              <a:off x="6519600" y="15228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0" name="_s168969"/>
            <p:cNvSpPr/>
            <p:nvPr/>
          </p:nvSpPr>
          <p:spPr>
            <a:xfrm>
              <a:off x="6516720" y="754560"/>
              <a:ext cx="2437920" cy="757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9" name="_s168970"/>
            <p:cNvSpPr/>
            <p:nvPr/>
          </p:nvSpPr>
          <p:spPr>
            <a:xfrm>
              <a:off x="6519600" y="169236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De onde vêm os</a:t>
            </a:r>
            <a:r>
              <a:rPr b="1" lang="pt-BR" sz="2800" spc="-1" strike="noStrike">
                <a:solidFill>
                  <a:srgbClr val="004c00"/>
                </a:solidFill>
                <a:latin typeface="Tempus Sans ITC"/>
              </a:rPr>
              <a:t>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Tagg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Problemas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De onde vêm os </a:t>
            </a: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corpora de treinamento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Limitações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dos sistemas de aprendizad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6516720" y="152280"/>
            <a:ext cx="2437920" cy="1962720"/>
            <a:chOff x="6516720" y="152280"/>
            <a:chExt cx="2437920" cy="1962720"/>
          </a:xfrm>
        </p:grpSpPr>
        <p:cxnSp>
          <p:nvCxnSpPr>
            <p:cNvPr id="417" name="_s175111"/>
            <p:cNvCxnSpPr>
              <a:stCxn id="418" idx="0"/>
              <a:endCxn id="419" idx="2"/>
            </p:cNvCxnSpPr>
            <p:nvPr/>
          </p:nvCxnSpPr>
          <p:spPr>
            <a:xfrm flipV="1" rot="16200000">
              <a:off x="7647120" y="160020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420" name="_s175112"/>
            <p:cNvCxnSpPr>
              <a:stCxn id="419" idx="0"/>
              <a:endCxn id="421" idx="2"/>
            </p:cNvCxnSpPr>
            <p:nvPr/>
          </p:nvCxnSpPr>
          <p:spPr>
            <a:xfrm flipH="1" flipV="1" rot="5400000">
              <a:off x="7647120" y="66276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421" name="_s175113"/>
            <p:cNvSpPr/>
            <p:nvPr/>
          </p:nvSpPr>
          <p:spPr>
            <a:xfrm>
              <a:off x="6519600" y="15228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9" name="_s175114"/>
            <p:cNvSpPr/>
            <p:nvPr/>
          </p:nvSpPr>
          <p:spPr>
            <a:xfrm>
              <a:off x="6516720" y="754560"/>
              <a:ext cx="2437920" cy="757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8" name="_s175115"/>
            <p:cNvSpPr/>
            <p:nvPr/>
          </p:nvSpPr>
          <p:spPr>
            <a:xfrm>
              <a:off x="6519600" y="169236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Corpora de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Treinamen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de </a:t>
            </a: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mesmo formato</a:t>
            </a: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que a saída esperad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trata-se de um exemplo a ser seguid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59595"/>
                </a:solidFill>
                <a:latin typeface="Arial"/>
              </a:rPr>
              <a:t>tamanho</a:t>
            </a:r>
            <a:r>
              <a:rPr b="1" lang="pt-BR" sz="2400" spc="-1" strike="noStrike">
                <a:solidFill>
                  <a:srgbClr val="959595"/>
                </a:solidFill>
                <a:latin typeface="Arial"/>
              </a:rPr>
              <a:t> é document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95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59595"/>
                </a:solidFill>
                <a:latin typeface="Arial"/>
              </a:rPr>
              <a:t>um milhão de palavra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59595"/>
                </a:solidFill>
                <a:latin typeface="Arial"/>
              </a:rPr>
              <a:t>representatividad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516720" y="152280"/>
            <a:ext cx="2437920" cy="1962720"/>
            <a:chOff x="6516720" y="152280"/>
            <a:chExt cx="2437920" cy="1962720"/>
          </a:xfrm>
        </p:grpSpPr>
        <p:cxnSp>
          <p:nvCxnSpPr>
            <p:cNvPr id="426" name="_s173063"/>
            <p:cNvCxnSpPr>
              <a:stCxn id="427" idx="0"/>
              <a:endCxn id="428" idx="2"/>
            </p:cNvCxnSpPr>
            <p:nvPr/>
          </p:nvCxnSpPr>
          <p:spPr>
            <a:xfrm flipV="1" rot="16200000">
              <a:off x="7647120" y="160020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429" name="_s173064"/>
            <p:cNvCxnSpPr>
              <a:stCxn id="428" idx="0"/>
              <a:endCxn id="430" idx="2"/>
            </p:cNvCxnSpPr>
            <p:nvPr/>
          </p:nvCxnSpPr>
          <p:spPr>
            <a:xfrm flipH="1" flipV="1" rot="5400000">
              <a:off x="7647120" y="66276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430" name="_s173065"/>
            <p:cNvSpPr/>
            <p:nvPr/>
          </p:nvSpPr>
          <p:spPr>
            <a:xfrm>
              <a:off x="6519600" y="15228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8" name="_s173066"/>
            <p:cNvSpPr/>
            <p:nvPr/>
          </p:nvSpPr>
          <p:spPr>
            <a:xfrm>
              <a:off x="6516720" y="754560"/>
              <a:ext cx="2437920" cy="757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7" name="_s173067"/>
            <p:cNvSpPr/>
            <p:nvPr/>
          </p:nvSpPr>
          <p:spPr>
            <a:xfrm>
              <a:off x="6519600" y="169236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Corpora de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Treinamen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de </a:t>
            </a: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mesmo formato</a:t>
            </a: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que a saída esperad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trata-se de um exemplo a ser seguid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tamanho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é document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um milhão de palavra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59595"/>
                </a:solidFill>
                <a:latin typeface="Arial"/>
              </a:rPr>
              <a:t>representatividad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516720" y="152280"/>
            <a:ext cx="2437920" cy="1962720"/>
            <a:chOff x="6516720" y="152280"/>
            <a:chExt cx="2437920" cy="1962720"/>
          </a:xfrm>
        </p:grpSpPr>
        <p:cxnSp>
          <p:nvCxnSpPr>
            <p:cNvPr id="435" name="_s177159"/>
            <p:cNvCxnSpPr>
              <a:stCxn id="436" idx="0"/>
              <a:endCxn id="437" idx="2"/>
            </p:cNvCxnSpPr>
            <p:nvPr/>
          </p:nvCxnSpPr>
          <p:spPr>
            <a:xfrm flipV="1" rot="16200000">
              <a:off x="7647120" y="160020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438" name="_s177160"/>
            <p:cNvCxnSpPr>
              <a:stCxn id="437" idx="0"/>
              <a:endCxn id="439" idx="2"/>
            </p:cNvCxnSpPr>
            <p:nvPr/>
          </p:nvCxnSpPr>
          <p:spPr>
            <a:xfrm flipH="1" flipV="1" rot="5400000">
              <a:off x="7647120" y="66276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439" name="_s177161"/>
            <p:cNvSpPr/>
            <p:nvPr/>
          </p:nvSpPr>
          <p:spPr>
            <a:xfrm>
              <a:off x="6519600" y="15228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7" name="_s177162"/>
            <p:cNvSpPr/>
            <p:nvPr/>
          </p:nvSpPr>
          <p:spPr>
            <a:xfrm>
              <a:off x="6516720" y="754560"/>
              <a:ext cx="2437920" cy="757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6" name="_s177163"/>
            <p:cNvSpPr/>
            <p:nvPr/>
          </p:nvSpPr>
          <p:spPr>
            <a:xfrm>
              <a:off x="6519600" y="169236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Corpora de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Treinamen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de </a:t>
            </a: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mesmo formato</a:t>
            </a: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que a saída esperad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trata-se de um exemplo a ser seguido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tamanho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é document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um milhão de palavra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representatividad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6516720" y="152280"/>
            <a:ext cx="2437920" cy="1962720"/>
            <a:chOff x="6516720" y="152280"/>
            <a:chExt cx="2437920" cy="1962720"/>
          </a:xfrm>
        </p:grpSpPr>
        <p:cxnSp>
          <p:nvCxnSpPr>
            <p:cNvPr id="444" name="_s179207"/>
            <p:cNvCxnSpPr>
              <a:stCxn id="445" idx="0"/>
              <a:endCxn id="446" idx="2"/>
            </p:cNvCxnSpPr>
            <p:nvPr/>
          </p:nvCxnSpPr>
          <p:spPr>
            <a:xfrm flipV="1" rot="16200000">
              <a:off x="7647120" y="160020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447" name="_s179208"/>
            <p:cNvCxnSpPr>
              <a:stCxn id="446" idx="0"/>
              <a:endCxn id="448" idx="2"/>
            </p:cNvCxnSpPr>
            <p:nvPr/>
          </p:nvCxnSpPr>
          <p:spPr>
            <a:xfrm flipH="1" flipV="1" rot="5400000">
              <a:off x="7647120" y="66276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448" name="_s179209"/>
            <p:cNvSpPr/>
            <p:nvPr/>
          </p:nvSpPr>
          <p:spPr>
            <a:xfrm>
              <a:off x="6519600" y="15228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6" name="_s179210"/>
            <p:cNvSpPr/>
            <p:nvPr/>
          </p:nvSpPr>
          <p:spPr>
            <a:xfrm>
              <a:off x="6516720" y="754560"/>
              <a:ext cx="2437920" cy="757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5" name="_s179211"/>
            <p:cNvSpPr/>
            <p:nvPr/>
          </p:nvSpPr>
          <p:spPr>
            <a:xfrm>
              <a:off x="6519600" y="169236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Etiquetando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1 milh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516720" y="152280"/>
            <a:ext cx="2437920" cy="1962720"/>
            <a:chOff x="6516720" y="152280"/>
            <a:chExt cx="2437920" cy="1962720"/>
          </a:xfrm>
        </p:grpSpPr>
        <p:cxnSp>
          <p:nvCxnSpPr>
            <p:cNvPr id="452" name="_s181255"/>
            <p:cNvCxnSpPr>
              <a:stCxn id="453" idx="0"/>
              <a:endCxn id="454" idx="2"/>
            </p:cNvCxnSpPr>
            <p:nvPr/>
          </p:nvCxnSpPr>
          <p:spPr>
            <a:xfrm flipV="1" rot="16200000">
              <a:off x="7647120" y="160020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455" name="_s181256"/>
            <p:cNvCxnSpPr>
              <a:stCxn id="454" idx="0"/>
              <a:endCxn id="456" idx="2"/>
            </p:cNvCxnSpPr>
            <p:nvPr/>
          </p:nvCxnSpPr>
          <p:spPr>
            <a:xfrm flipH="1" flipV="1" rot="5400000">
              <a:off x="7647120" y="66276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456" name="_s181257"/>
            <p:cNvSpPr/>
            <p:nvPr/>
          </p:nvSpPr>
          <p:spPr>
            <a:xfrm>
              <a:off x="6519600" y="15228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4" name="_s181258"/>
            <p:cNvSpPr/>
            <p:nvPr/>
          </p:nvSpPr>
          <p:spPr>
            <a:xfrm>
              <a:off x="6516720" y="754560"/>
              <a:ext cx="2437920" cy="757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3" name="_s181259"/>
            <p:cNvSpPr/>
            <p:nvPr/>
          </p:nvSpPr>
          <p:spPr>
            <a:xfrm>
              <a:off x="6519600" y="169236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684360" y="2133720"/>
            <a:ext cx="1366560" cy="38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 xx 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 xx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  xxxx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 xx 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 xxx x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 xx x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  xxxx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 xx 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 xxx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30320" y="1973160"/>
            <a:ext cx="2525400" cy="1814760"/>
          </a:xfrm>
          <a:custGeom>
            <a:avLst/>
            <a:gdLst/>
            <a:ahLst/>
            <a:rect l="l" t="t" r="r" b="b"/>
            <a:pathLst>
              <a:path w="1591" h="1143">
                <a:moveTo>
                  <a:pt x="0" y="0"/>
                </a:moveTo>
                <a:lnTo>
                  <a:pt x="1536" y="92"/>
                </a:lnTo>
                <a:lnTo>
                  <a:pt x="1591" y="951"/>
                </a:lnTo>
                <a:lnTo>
                  <a:pt x="110" y="1143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Etiquetando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1 milh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6516720" y="152280"/>
            <a:ext cx="2437920" cy="1962720"/>
            <a:chOff x="6516720" y="152280"/>
            <a:chExt cx="2437920" cy="1962720"/>
          </a:xfrm>
        </p:grpSpPr>
        <p:cxnSp>
          <p:nvCxnSpPr>
            <p:cNvPr id="462" name="_s184327"/>
            <p:cNvCxnSpPr>
              <a:stCxn id="463" idx="0"/>
              <a:endCxn id="464" idx="2"/>
            </p:cNvCxnSpPr>
            <p:nvPr/>
          </p:nvCxnSpPr>
          <p:spPr>
            <a:xfrm flipV="1" rot="16200000">
              <a:off x="7647120" y="160020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465" name="_s184328"/>
            <p:cNvCxnSpPr>
              <a:stCxn id="464" idx="0"/>
              <a:endCxn id="466" idx="2"/>
            </p:cNvCxnSpPr>
            <p:nvPr/>
          </p:nvCxnSpPr>
          <p:spPr>
            <a:xfrm flipH="1" flipV="1" rot="5400000">
              <a:off x="7647120" y="66276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466" name="_s184329"/>
            <p:cNvSpPr/>
            <p:nvPr/>
          </p:nvSpPr>
          <p:spPr>
            <a:xfrm>
              <a:off x="6519600" y="15228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4" name="_s184330"/>
            <p:cNvSpPr/>
            <p:nvPr/>
          </p:nvSpPr>
          <p:spPr>
            <a:xfrm>
              <a:off x="6516720" y="754560"/>
              <a:ext cx="2437920" cy="757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3" name="_s184331"/>
            <p:cNvSpPr/>
            <p:nvPr/>
          </p:nvSpPr>
          <p:spPr>
            <a:xfrm>
              <a:off x="6519600" y="169236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84360" y="2133720"/>
            <a:ext cx="1366560" cy="38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V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N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PRE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-----------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 xxx x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 xx x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  xxxx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 xx 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 xxx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30320" y="1973160"/>
            <a:ext cx="2525400" cy="1814760"/>
          </a:xfrm>
          <a:custGeom>
            <a:avLst/>
            <a:gdLst/>
            <a:ahLst/>
            <a:rect l="l" t="t" r="r" b="b"/>
            <a:pathLst>
              <a:path w="1591" h="1143">
                <a:moveTo>
                  <a:pt x="0" y="0"/>
                </a:moveTo>
                <a:lnTo>
                  <a:pt x="1536" y="92"/>
                </a:lnTo>
                <a:lnTo>
                  <a:pt x="1591" y="951"/>
                </a:lnTo>
                <a:lnTo>
                  <a:pt x="110" y="1143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Etiquetando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1 Milh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6516720" y="152280"/>
            <a:ext cx="2437920" cy="1962720"/>
            <a:chOff x="6516720" y="152280"/>
            <a:chExt cx="2437920" cy="1962720"/>
          </a:xfrm>
        </p:grpSpPr>
        <p:cxnSp>
          <p:nvCxnSpPr>
            <p:cNvPr id="472" name="_s192519"/>
            <p:cNvCxnSpPr>
              <a:stCxn id="473" idx="0"/>
              <a:endCxn id="474" idx="2"/>
            </p:cNvCxnSpPr>
            <p:nvPr/>
          </p:nvCxnSpPr>
          <p:spPr>
            <a:xfrm flipV="1" rot="16200000">
              <a:off x="7647120" y="160020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475" name="_s192520"/>
            <p:cNvCxnSpPr>
              <a:stCxn id="474" idx="0"/>
              <a:endCxn id="476" idx="2"/>
            </p:cNvCxnSpPr>
            <p:nvPr/>
          </p:nvCxnSpPr>
          <p:spPr>
            <a:xfrm flipH="1" flipV="1" rot="5400000">
              <a:off x="7647120" y="66276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476" name="_s192521"/>
            <p:cNvSpPr/>
            <p:nvPr/>
          </p:nvSpPr>
          <p:spPr>
            <a:xfrm>
              <a:off x="6519600" y="15228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4" name="_s192522"/>
            <p:cNvSpPr/>
            <p:nvPr/>
          </p:nvSpPr>
          <p:spPr>
            <a:xfrm>
              <a:off x="6516720" y="754560"/>
              <a:ext cx="2437920" cy="757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3" name="_s192523"/>
            <p:cNvSpPr/>
            <p:nvPr/>
          </p:nvSpPr>
          <p:spPr>
            <a:xfrm>
              <a:off x="6519600" y="169236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484360" y="2565360"/>
            <a:ext cx="18208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100000">
                <a:srgbClr val="b1cfb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Treinament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835280" y="2637000"/>
            <a:ext cx="792000" cy="431640"/>
          </a:xfrm>
          <a:custGeom>
            <a:avLst/>
            <a:gdLst>
              <a:gd name="textAreaLeft" fmla="*/ 123480 w 792000"/>
              <a:gd name="textAreaRight" fmla="*/ 693000 w 792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556000" y="3933720"/>
            <a:ext cx="151272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100000">
                <a:srgbClr val="b1cfb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Tagger v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5400000">
            <a:off x="2807280" y="3248640"/>
            <a:ext cx="1081080" cy="43200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4360" y="2133720"/>
            <a:ext cx="1366560" cy="38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V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N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PRE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-----------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 xxx x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 xx x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  xxxx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 xx 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 xxx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324000" y="112536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Etiquetação Morfossintát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360" y="2708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59595"/>
                </a:solidFill>
                <a:latin typeface="Arial"/>
              </a:rPr>
              <a:t>Do quê?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59595"/>
                </a:solidFill>
                <a:latin typeface="Arial"/>
              </a:rPr>
              <a:t>Por quê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59595"/>
                </a:solidFill>
                <a:latin typeface="Arial"/>
              </a:rPr>
              <a:t>Por quem?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59595"/>
                </a:solidFill>
                <a:latin typeface="Arial"/>
              </a:rPr>
              <a:t>Com que </a:t>
            </a:r>
            <a:r>
              <a:rPr b="1" i="1" lang="pt-BR" sz="4400" spc="-1" strike="noStrike">
                <a:solidFill>
                  <a:srgbClr val="959595"/>
                </a:solidFill>
                <a:latin typeface="Arial"/>
              </a:rPr>
              <a:t>tagset</a:t>
            </a:r>
            <a:r>
              <a:rPr b="1" lang="pt-BR" sz="4400" spc="-1" strike="noStrike">
                <a:solidFill>
                  <a:srgbClr val="959595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30320" y="3414600"/>
            <a:ext cx="2525400" cy="1814760"/>
          </a:xfrm>
          <a:custGeom>
            <a:avLst/>
            <a:gdLst/>
            <a:ahLst/>
            <a:rect l="l" t="t" r="r" b="b"/>
            <a:pathLst>
              <a:path w="1591" h="1143">
                <a:moveTo>
                  <a:pt x="0" y="0"/>
                </a:moveTo>
                <a:lnTo>
                  <a:pt x="1536" y="92"/>
                </a:lnTo>
                <a:lnTo>
                  <a:pt x="1591" y="951"/>
                </a:lnTo>
                <a:lnTo>
                  <a:pt x="110" y="1143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Etiquetando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1 milh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516720" y="152280"/>
            <a:ext cx="2437920" cy="1962720"/>
            <a:chOff x="6516720" y="152280"/>
            <a:chExt cx="2437920" cy="1962720"/>
          </a:xfrm>
        </p:grpSpPr>
        <p:cxnSp>
          <p:nvCxnSpPr>
            <p:cNvPr id="486" name="_s188423"/>
            <p:cNvCxnSpPr>
              <a:stCxn id="487" idx="0"/>
              <a:endCxn id="488" idx="2"/>
            </p:cNvCxnSpPr>
            <p:nvPr/>
          </p:nvCxnSpPr>
          <p:spPr>
            <a:xfrm flipV="1" rot="16200000">
              <a:off x="7647120" y="160020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489" name="_s188424"/>
            <p:cNvCxnSpPr>
              <a:stCxn id="488" idx="0"/>
              <a:endCxn id="490" idx="2"/>
            </p:cNvCxnSpPr>
            <p:nvPr/>
          </p:nvCxnSpPr>
          <p:spPr>
            <a:xfrm flipH="1" flipV="1" rot="5400000">
              <a:off x="7647120" y="66276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490" name="_s188425"/>
            <p:cNvSpPr/>
            <p:nvPr/>
          </p:nvSpPr>
          <p:spPr>
            <a:xfrm>
              <a:off x="6519600" y="15228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8" name="_s188426"/>
            <p:cNvSpPr/>
            <p:nvPr/>
          </p:nvSpPr>
          <p:spPr>
            <a:xfrm>
              <a:off x="6516720" y="754560"/>
              <a:ext cx="2437920" cy="757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7" name="_s188427"/>
            <p:cNvSpPr/>
            <p:nvPr/>
          </p:nvSpPr>
          <p:spPr>
            <a:xfrm>
              <a:off x="6519600" y="169236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2484360" y="2565360"/>
            <a:ext cx="18208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100000">
                <a:srgbClr val="b1cfb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Treinament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627280" y="3933720"/>
            <a:ext cx="1513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100000">
                <a:srgbClr val="b1cfb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Tagger v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rot="5400000">
            <a:off x="2807280" y="3248640"/>
            <a:ext cx="1081080" cy="43200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4360" y="2133720"/>
            <a:ext cx="1366560" cy="38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V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N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PRE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-----------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 xxx x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 xx x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  xxxx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-----------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 xxx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835280" y="2637000"/>
            <a:ext cx="792000" cy="431640"/>
          </a:xfrm>
          <a:custGeom>
            <a:avLst/>
            <a:gdLst>
              <a:gd name="textAreaLeft" fmla="*/ 123480 w 792000"/>
              <a:gd name="textAreaRight" fmla="*/ 693000 w 792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835280" y="4005360"/>
            <a:ext cx="865080" cy="431640"/>
          </a:xfrm>
          <a:custGeom>
            <a:avLst/>
            <a:gdLst>
              <a:gd name="textAreaLeft" fmla="*/ 135000 w 865080"/>
              <a:gd name="textAreaRight" fmla="*/ 757080 w 8650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59280" y="2133720"/>
            <a:ext cx="1366920" cy="38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V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N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PRE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-----------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AU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I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PRO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-----------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 xxx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067280" y="4005360"/>
            <a:ext cx="865080" cy="431640"/>
          </a:xfrm>
          <a:custGeom>
            <a:avLst/>
            <a:gdLst>
              <a:gd name="textAreaLeft" fmla="*/ 135000 w 865080"/>
              <a:gd name="textAreaRight" fmla="*/ 757080 w 8650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4284720" y="3429000"/>
            <a:ext cx="2525760" cy="1814400"/>
          </a:xfrm>
          <a:custGeom>
            <a:avLst/>
            <a:gdLst/>
            <a:ahLst/>
            <a:rect l="l" t="t" r="r" b="b"/>
            <a:pathLst>
              <a:path w="1591" h="1143">
                <a:moveTo>
                  <a:pt x="0" y="0"/>
                </a:moveTo>
                <a:lnTo>
                  <a:pt x="1536" y="92"/>
                </a:lnTo>
                <a:lnTo>
                  <a:pt x="1591" y="951"/>
                </a:lnTo>
                <a:lnTo>
                  <a:pt x="110" y="1143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Etiquetando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1 milh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516720" y="152280"/>
            <a:ext cx="2437920" cy="1962720"/>
            <a:chOff x="6516720" y="152280"/>
            <a:chExt cx="2437920" cy="1962720"/>
          </a:xfrm>
        </p:grpSpPr>
        <p:cxnSp>
          <p:nvCxnSpPr>
            <p:cNvPr id="503" name="_s190471"/>
            <p:cNvCxnSpPr>
              <a:stCxn id="504" idx="0"/>
              <a:endCxn id="505" idx="2"/>
            </p:cNvCxnSpPr>
            <p:nvPr/>
          </p:nvCxnSpPr>
          <p:spPr>
            <a:xfrm flipV="1" rot="16200000">
              <a:off x="7647120" y="160020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506" name="_s190472"/>
            <p:cNvCxnSpPr>
              <a:stCxn id="505" idx="0"/>
              <a:endCxn id="507" idx="2"/>
            </p:cNvCxnSpPr>
            <p:nvPr/>
          </p:nvCxnSpPr>
          <p:spPr>
            <a:xfrm flipH="1" flipV="1" rot="5400000">
              <a:off x="7647120" y="66276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507" name="_s190473"/>
            <p:cNvSpPr/>
            <p:nvPr/>
          </p:nvSpPr>
          <p:spPr>
            <a:xfrm>
              <a:off x="6519600" y="15228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5" name="_s190474"/>
            <p:cNvSpPr/>
            <p:nvPr/>
          </p:nvSpPr>
          <p:spPr>
            <a:xfrm>
              <a:off x="6516720" y="754560"/>
              <a:ext cx="2437920" cy="757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4" name="_s190475"/>
            <p:cNvSpPr/>
            <p:nvPr/>
          </p:nvSpPr>
          <p:spPr>
            <a:xfrm>
              <a:off x="6519600" y="169236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2484360" y="2565360"/>
            <a:ext cx="18208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100000">
                <a:srgbClr val="b1cfb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Treinament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627280" y="3933720"/>
            <a:ext cx="1513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100000">
                <a:srgbClr val="b1cfb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Tagger v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5400000">
            <a:off x="2807280" y="3248640"/>
            <a:ext cx="1081080" cy="43200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4360" y="2133720"/>
            <a:ext cx="1366560" cy="38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V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N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PRE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-----------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 xxx x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 xx x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  xxxx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-----------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 xxx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35280" y="2637000"/>
            <a:ext cx="792000" cy="431640"/>
          </a:xfrm>
          <a:custGeom>
            <a:avLst/>
            <a:gdLst>
              <a:gd name="textAreaLeft" fmla="*/ 123480 w 792000"/>
              <a:gd name="textAreaRight" fmla="*/ 693000 w 792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35280" y="4005360"/>
            <a:ext cx="865080" cy="431640"/>
          </a:xfrm>
          <a:custGeom>
            <a:avLst/>
            <a:gdLst>
              <a:gd name="textAreaLeft" fmla="*/ 135000 w 865080"/>
              <a:gd name="textAreaRight" fmla="*/ 757080 w 8650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59280" y="2133720"/>
            <a:ext cx="1366920" cy="38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V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N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PRE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-----------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AU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I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PRO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-----------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 xxx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067280" y="4005360"/>
            <a:ext cx="865080" cy="431640"/>
          </a:xfrm>
          <a:custGeom>
            <a:avLst/>
            <a:gdLst>
              <a:gd name="textAreaLeft" fmla="*/ 135000 w 865080"/>
              <a:gd name="textAreaRight" fmla="*/ 757080 w 8650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04000" y="3933720"/>
            <a:ext cx="1513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100000">
                <a:srgbClr val="b1cfb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Revisã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12000" y="4005360"/>
            <a:ext cx="865080" cy="431640"/>
          </a:xfrm>
          <a:custGeom>
            <a:avLst/>
            <a:gdLst>
              <a:gd name="textAreaLeft" fmla="*/ 135000 w 865080"/>
              <a:gd name="textAreaRight" fmla="*/ 757080 w 8650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244000" y="4005360"/>
            <a:ext cx="865080" cy="431640"/>
          </a:xfrm>
          <a:custGeom>
            <a:avLst/>
            <a:gdLst>
              <a:gd name="textAreaLeft" fmla="*/ 135000 w 865080"/>
              <a:gd name="textAreaRight" fmla="*/ 757080 w 8650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79280" y="1959120"/>
            <a:ext cx="2305080" cy="3125520"/>
          </a:xfrm>
          <a:custGeom>
            <a:avLst/>
            <a:gdLst/>
            <a:ahLst/>
            <a:rect l="l" t="t" r="r" b="b"/>
            <a:pathLst>
              <a:path w="1231" h="1911">
                <a:moveTo>
                  <a:pt x="0" y="9"/>
                </a:moveTo>
                <a:lnTo>
                  <a:pt x="1167" y="0"/>
                </a:lnTo>
                <a:lnTo>
                  <a:pt x="1231" y="92"/>
                </a:lnTo>
                <a:lnTo>
                  <a:pt x="1222" y="1838"/>
                </a:lnTo>
                <a:lnTo>
                  <a:pt x="61" y="1911"/>
                </a:lnTo>
                <a:lnTo>
                  <a:pt x="0" y="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Etiquetando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1 milh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516720" y="152280"/>
            <a:ext cx="2437920" cy="1962720"/>
            <a:chOff x="6516720" y="152280"/>
            <a:chExt cx="2437920" cy="1962720"/>
          </a:xfrm>
        </p:grpSpPr>
        <p:cxnSp>
          <p:nvCxnSpPr>
            <p:cNvPr id="523" name="_s186375"/>
            <p:cNvCxnSpPr>
              <a:stCxn id="524" idx="0"/>
              <a:endCxn id="525" idx="2"/>
            </p:cNvCxnSpPr>
            <p:nvPr/>
          </p:nvCxnSpPr>
          <p:spPr>
            <a:xfrm flipV="1" rot="16200000">
              <a:off x="7647120" y="160020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526" name="_s186376"/>
            <p:cNvCxnSpPr>
              <a:stCxn id="525" idx="0"/>
              <a:endCxn id="527" idx="2"/>
            </p:cNvCxnSpPr>
            <p:nvPr/>
          </p:nvCxnSpPr>
          <p:spPr>
            <a:xfrm flipH="1" flipV="1" rot="5400000">
              <a:off x="7647120" y="66276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527" name="_s186377"/>
            <p:cNvSpPr/>
            <p:nvPr/>
          </p:nvSpPr>
          <p:spPr>
            <a:xfrm>
              <a:off x="6519600" y="15228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5" name="_s186378"/>
            <p:cNvSpPr/>
            <p:nvPr/>
          </p:nvSpPr>
          <p:spPr>
            <a:xfrm>
              <a:off x="6516720" y="754560"/>
              <a:ext cx="2437920" cy="757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4" name="_s186379"/>
            <p:cNvSpPr/>
            <p:nvPr/>
          </p:nvSpPr>
          <p:spPr>
            <a:xfrm>
              <a:off x="6519600" y="169236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2679840" y="3862440"/>
            <a:ext cx="18208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100000">
                <a:srgbClr val="b1cfb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Treinament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51120" y="5230800"/>
            <a:ext cx="1513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100000">
                <a:srgbClr val="b1cfb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Tagger v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5400000">
            <a:off x="3002400" y="4545720"/>
            <a:ext cx="1081080" cy="4316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4360" y="2133720"/>
            <a:ext cx="1366560" cy="38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V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N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PRE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AU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I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PR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ADJ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-----------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 xx 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 xxx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79640" y="3933720"/>
            <a:ext cx="792000" cy="432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Limitações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no Aprendizado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516720" y="152280"/>
            <a:ext cx="2437920" cy="1962720"/>
            <a:chOff x="6516720" y="152280"/>
            <a:chExt cx="2437920" cy="1962720"/>
          </a:xfrm>
        </p:grpSpPr>
        <p:cxnSp>
          <p:nvCxnSpPr>
            <p:cNvPr id="536" name="_s194567"/>
            <p:cNvCxnSpPr>
              <a:stCxn id="537" idx="0"/>
              <a:endCxn id="538" idx="2"/>
            </p:cNvCxnSpPr>
            <p:nvPr/>
          </p:nvCxnSpPr>
          <p:spPr>
            <a:xfrm flipV="1" rot="16200000">
              <a:off x="7647120" y="160020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539" name="_s194568"/>
            <p:cNvCxnSpPr>
              <a:stCxn id="538" idx="0"/>
              <a:endCxn id="540" idx="2"/>
            </p:cNvCxnSpPr>
            <p:nvPr/>
          </p:nvCxnSpPr>
          <p:spPr>
            <a:xfrm flipH="1" flipV="1" rot="5400000">
              <a:off x="7647120" y="66276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540" name="_s194569"/>
            <p:cNvSpPr/>
            <p:nvPr/>
          </p:nvSpPr>
          <p:spPr>
            <a:xfrm>
              <a:off x="6519600" y="15228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8" name="_s194570"/>
            <p:cNvSpPr/>
            <p:nvPr/>
          </p:nvSpPr>
          <p:spPr>
            <a:xfrm>
              <a:off x="6516720" y="754560"/>
              <a:ext cx="2437920" cy="757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7" name="_s194571"/>
            <p:cNvSpPr/>
            <p:nvPr/>
          </p:nvSpPr>
          <p:spPr>
            <a:xfrm>
              <a:off x="6519600" y="169236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900000" y="4437000"/>
            <a:ext cx="86364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78787"/>
                </a:solidFill>
                <a:latin typeface="Times New Roman"/>
              </a:rPr>
              <a:t>seu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763640" y="4437000"/>
            <a:ext cx="129564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78787"/>
                </a:solidFill>
                <a:latin typeface="Times New Roman"/>
              </a:rPr>
              <a:t>irmã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59280" y="4437000"/>
            <a:ext cx="129528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78787"/>
                </a:solidFill>
                <a:latin typeface="Times New Roman"/>
              </a:rPr>
              <a:t>andav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356000" y="4437000"/>
            <a:ext cx="208764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78787"/>
                </a:solidFill>
                <a:latin typeface="Times New Roman"/>
              </a:rPr>
              <a:t>ultimamen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443640" y="4438800"/>
            <a:ext cx="129528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78787"/>
                </a:solidFill>
                <a:latin typeface="Times New Roman"/>
              </a:rPr>
              <a:t>mui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0920" y="4437000"/>
            <a:ext cx="64908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78787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740720" y="4437000"/>
            <a:ext cx="129528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78787"/>
                </a:solidFill>
                <a:latin typeface="Times New Roman"/>
              </a:rPr>
              <a:t>tris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59595"/>
                </a:solidFill>
                <a:latin typeface="Arial"/>
              </a:rPr>
              <a:t>não</a:t>
            </a:r>
            <a:r>
              <a:rPr b="1" lang="pt-BR" sz="2400" spc="-1" strike="noStrike">
                <a:solidFill>
                  <a:srgbClr val="959595"/>
                </a:solidFill>
                <a:latin typeface="Arial"/>
              </a:rPr>
              <a:t> fazem análise sintátic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59595"/>
                </a:solidFill>
                <a:latin typeface="Arial"/>
              </a:rPr>
              <a:t>baseiam-se em “</a:t>
            </a:r>
            <a:r>
              <a:rPr b="1" lang="pt-BR" sz="3200" spc="-1" strike="noStrike">
                <a:solidFill>
                  <a:srgbClr val="959595"/>
                </a:solidFill>
                <a:latin typeface="Arial"/>
              </a:rPr>
              <a:t>janelas de decisão</a:t>
            </a:r>
            <a:r>
              <a:rPr b="1" lang="pt-BR" sz="2400" spc="-1" strike="noStrike">
                <a:solidFill>
                  <a:srgbClr val="959595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Limitações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no Aprendizado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516720" y="152280"/>
            <a:ext cx="2437920" cy="1962720"/>
            <a:chOff x="6516720" y="152280"/>
            <a:chExt cx="2437920" cy="1962720"/>
          </a:xfrm>
        </p:grpSpPr>
        <p:cxnSp>
          <p:nvCxnSpPr>
            <p:cNvPr id="552" name="_s201734"/>
            <p:cNvCxnSpPr>
              <a:stCxn id="553" idx="0"/>
              <a:endCxn id="554" idx="2"/>
            </p:cNvCxnSpPr>
            <p:nvPr/>
          </p:nvCxnSpPr>
          <p:spPr>
            <a:xfrm flipV="1" rot="16200000">
              <a:off x="7647120" y="160020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555" name="_s201735"/>
            <p:cNvCxnSpPr>
              <a:stCxn id="554" idx="0"/>
              <a:endCxn id="556" idx="2"/>
            </p:cNvCxnSpPr>
            <p:nvPr/>
          </p:nvCxnSpPr>
          <p:spPr>
            <a:xfrm flipH="1" flipV="1" rot="5400000">
              <a:off x="7647120" y="66276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556" name="_s201736"/>
            <p:cNvSpPr/>
            <p:nvPr/>
          </p:nvSpPr>
          <p:spPr>
            <a:xfrm>
              <a:off x="6519600" y="15228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4" name="_s201737"/>
            <p:cNvSpPr/>
            <p:nvPr/>
          </p:nvSpPr>
          <p:spPr>
            <a:xfrm>
              <a:off x="6516720" y="754560"/>
              <a:ext cx="2437920" cy="757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3" name="_s201738"/>
            <p:cNvSpPr/>
            <p:nvPr/>
          </p:nvSpPr>
          <p:spPr>
            <a:xfrm>
              <a:off x="6519600" y="169236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900000" y="4437000"/>
            <a:ext cx="86364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78787"/>
                </a:solidFill>
                <a:latin typeface="Times New Roman"/>
              </a:rPr>
              <a:t>seu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763640" y="4437000"/>
            <a:ext cx="129564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78787"/>
                </a:solidFill>
                <a:latin typeface="Times New Roman"/>
              </a:rPr>
              <a:t>irmã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59280" y="4437000"/>
            <a:ext cx="129528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78787"/>
                </a:solidFill>
                <a:latin typeface="Times New Roman"/>
              </a:rPr>
              <a:t>andav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356000" y="4437000"/>
            <a:ext cx="208764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78787"/>
                </a:solidFill>
                <a:latin typeface="Times New Roman"/>
              </a:rPr>
              <a:t>ultimamen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443640" y="4438800"/>
            <a:ext cx="129528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78787"/>
                </a:solidFill>
                <a:latin typeface="Times New Roman"/>
              </a:rPr>
              <a:t>mui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50920" y="4437000"/>
            <a:ext cx="64908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78787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740720" y="4437000"/>
            <a:ext cx="129528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78787"/>
                </a:solidFill>
                <a:latin typeface="Times New Roman"/>
              </a:rPr>
              <a:t>tris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não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fazem análise sintátic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59595"/>
                </a:solidFill>
                <a:latin typeface="Arial"/>
              </a:rPr>
              <a:t>baseiam-se em “</a:t>
            </a:r>
            <a:r>
              <a:rPr b="1" lang="pt-BR" sz="3200" spc="-1" strike="noStrike">
                <a:solidFill>
                  <a:srgbClr val="959595"/>
                </a:solidFill>
                <a:latin typeface="Arial"/>
              </a:rPr>
              <a:t>janelas de decisão</a:t>
            </a:r>
            <a:r>
              <a:rPr b="1" lang="pt-BR" sz="2400" spc="-1" strike="noStrike">
                <a:solidFill>
                  <a:srgbClr val="959595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Limitações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no Aprendizado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6516720" y="152280"/>
            <a:ext cx="2437920" cy="1962720"/>
            <a:chOff x="6516720" y="152280"/>
            <a:chExt cx="2437920" cy="1962720"/>
          </a:xfrm>
        </p:grpSpPr>
        <p:cxnSp>
          <p:nvCxnSpPr>
            <p:cNvPr id="568" name="_s197638"/>
            <p:cNvCxnSpPr>
              <a:stCxn id="569" idx="0"/>
              <a:endCxn id="570" idx="2"/>
            </p:cNvCxnSpPr>
            <p:nvPr/>
          </p:nvCxnSpPr>
          <p:spPr>
            <a:xfrm flipV="1" rot="16200000">
              <a:off x="7647120" y="160020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571" name="_s197639"/>
            <p:cNvCxnSpPr>
              <a:stCxn id="570" idx="0"/>
              <a:endCxn id="572" idx="2"/>
            </p:cNvCxnSpPr>
            <p:nvPr/>
          </p:nvCxnSpPr>
          <p:spPr>
            <a:xfrm flipH="1" flipV="1" rot="5400000">
              <a:off x="7647120" y="66276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572" name="_s197640"/>
            <p:cNvSpPr/>
            <p:nvPr/>
          </p:nvSpPr>
          <p:spPr>
            <a:xfrm>
              <a:off x="6519600" y="15228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0" name="_s197641"/>
            <p:cNvSpPr/>
            <p:nvPr/>
          </p:nvSpPr>
          <p:spPr>
            <a:xfrm>
              <a:off x="6516720" y="754560"/>
              <a:ext cx="2437920" cy="757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9" name="_s197642"/>
            <p:cNvSpPr/>
            <p:nvPr/>
          </p:nvSpPr>
          <p:spPr>
            <a:xfrm>
              <a:off x="6519600" y="169236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não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fazem análise sintátic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baseiam-se em “</a:t>
            </a: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janelas de decisão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900000" y="4437000"/>
            <a:ext cx="86364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seu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763640" y="4437000"/>
            <a:ext cx="129564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irmã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059280" y="4437000"/>
            <a:ext cx="129528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ndav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356000" y="4437000"/>
            <a:ext cx="208764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ultimamen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443640" y="4438800"/>
            <a:ext cx="129528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mui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0920" y="4437000"/>
            <a:ext cx="64908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740720" y="4437000"/>
            <a:ext cx="129528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tris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2917800" y="4238640"/>
            <a:ext cx="1682640" cy="1015920"/>
          </a:xfrm>
          <a:custGeom>
            <a:avLst/>
            <a:gdLst/>
            <a:ahLst/>
            <a:rect l="l" t="t" r="r" b="b"/>
            <a:pathLst>
              <a:path w="1060" h="640">
                <a:moveTo>
                  <a:pt x="9" y="0"/>
                </a:moveTo>
                <a:lnTo>
                  <a:pt x="521" y="0"/>
                </a:lnTo>
                <a:lnTo>
                  <a:pt x="1060" y="0"/>
                </a:lnTo>
                <a:lnTo>
                  <a:pt x="905" y="594"/>
                </a:lnTo>
                <a:lnTo>
                  <a:pt x="0" y="640"/>
                </a:lnTo>
                <a:lnTo>
                  <a:pt x="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Limitações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no Aprendizado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516720" y="152280"/>
            <a:ext cx="2437920" cy="1962720"/>
            <a:chOff x="6516720" y="152280"/>
            <a:chExt cx="2437920" cy="1962720"/>
          </a:xfrm>
        </p:grpSpPr>
        <p:cxnSp>
          <p:nvCxnSpPr>
            <p:cNvPr id="585" name="_s199686"/>
            <p:cNvCxnSpPr>
              <a:stCxn id="586" idx="0"/>
              <a:endCxn id="587" idx="2"/>
            </p:cNvCxnSpPr>
            <p:nvPr/>
          </p:nvCxnSpPr>
          <p:spPr>
            <a:xfrm flipV="1" rot="16200000">
              <a:off x="7647120" y="160020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588" name="_s199687"/>
            <p:cNvCxnSpPr>
              <a:stCxn id="587" idx="0"/>
              <a:endCxn id="589" idx="2"/>
            </p:cNvCxnSpPr>
            <p:nvPr/>
          </p:nvCxnSpPr>
          <p:spPr>
            <a:xfrm flipH="1" flipV="1" rot="5400000">
              <a:off x="7647120" y="66276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589" name="_s199688"/>
            <p:cNvSpPr/>
            <p:nvPr/>
          </p:nvSpPr>
          <p:spPr>
            <a:xfrm>
              <a:off x="6519600" y="15228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7" name="_s199689"/>
            <p:cNvSpPr/>
            <p:nvPr/>
          </p:nvSpPr>
          <p:spPr>
            <a:xfrm>
              <a:off x="6516720" y="754560"/>
              <a:ext cx="2437920" cy="757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6" name="_s199690"/>
            <p:cNvSpPr/>
            <p:nvPr/>
          </p:nvSpPr>
          <p:spPr>
            <a:xfrm>
              <a:off x="6519600" y="169236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900000" y="4437000"/>
            <a:ext cx="863640" cy="57456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seu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763640" y="4437000"/>
            <a:ext cx="1295640" cy="57456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irmã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59280" y="4437000"/>
            <a:ext cx="1295280" cy="574560"/>
          </a:xfrm>
          <a:prstGeom prst="bevel">
            <a:avLst>
              <a:gd name="adj" fmla="val 12500"/>
            </a:avLst>
          </a:pr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ndav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356000" y="4437000"/>
            <a:ext cx="2087640" cy="57456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ultimamen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443640" y="4438800"/>
            <a:ext cx="1295280" cy="57456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mui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0920" y="4437000"/>
            <a:ext cx="64908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78787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740720" y="4437000"/>
            <a:ext cx="129528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78787"/>
                </a:solidFill>
                <a:latin typeface="Times New Roman"/>
              </a:rPr>
              <a:t>tris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não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fazem análise sintátic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baseiam-se em “</a:t>
            </a: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janelas de decisão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2917800" y="4238640"/>
            <a:ext cx="1682640" cy="1015920"/>
          </a:xfrm>
          <a:custGeom>
            <a:avLst/>
            <a:gdLst/>
            <a:ahLst/>
            <a:rect l="l" t="t" r="r" b="b"/>
            <a:pathLst>
              <a:path w="1060" h="640">
                <a:moveTo>
                  <a:pt x="9" y="0"/>
                </a:moveTo>
                <a:lnTo>
                  <a:pt x="521" y="0"/>
                </a:lnTo>
                <a:lnTo>
                  <a:pt x="1060" y="0"/>
                </a:lnTo>
                <a:lnTo>
                  <a:pt x="905" y="594"/>
                </a:lnTo>
                <a:lnTo>
                  <a:pt x="0" y="640"/>
                </a:lnTo>
                <a:lnTo>
                  <a:pt x="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Limitações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no Aprendizado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6516720" y="152280"/>
            <a:ext cx="2437920" cy="1962720"/>
            <a:chOff x="6516720" y="152280"/>
            <a:chExt cx="2437920" cy="1962720"/>
          </a:xfrm>
        </p:grpSpPr>
        <p:cxnSp>
          <p:nvCxnSpPr>
            <p:cNvPr id="602" name="_s205831"/>
            <p:cNvCxnSpPr>
              <a:stCxn id="603" idx="0"/>
              <a:endCxn id="604" idx="2"/>
            </p:cNvCxnSpPr>
            <p:nvPr/>
          </p:nvCxnSpPr>
          <p:spPr>
            <a:xfrm flipV="1" rot="16200000">
              <a:off x="7647120" y="160020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605" name="_s205832"/>
            <p:cNvCxnSpPr>
              <a:stCxn id="604" idx="0"/>
              <a:endCxn id="606" idx="2"/>
            </p:cNvCxnSpPr>
            <p:nvPr/>
          </p:nvCxnSpPr>
          <p:spPr>
            <a:xfrm flipH="1" flipV="1" rot="5400000">
              <a:off x="7647120" y="66276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606" name="_s205833"/>
            <p:cNvSpPr/>
            <p:nvPr/>
          </p:nvSpPr>
          <p:spPr>
            <a:xfrm>
              <a:off x="6519600" y="15228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4" name="_s205834"/>
            <p:cNvSpPr/>
            <p:nvPr/>
          </p:nvSpPr>
          <p:spPr>
            <a:xfrm>
              <a:off x="6516720" y="754560"/>
              <a:ext cx="2437920" cy="757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3" name="_s205835"/>
            <p:cNvSpPr/>
            <p:nvPr/>
          </p:nvSpPr>
          <p:spPr>
            <a:xfrm>
              <a:off x="6519600" y="169236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900000" y="4437000"/>
            <a:ext cx="863640" cy="57456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seu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763640" y="4437000"/>
            <a:ext cx="1295640" cy="57456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irmã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59280" y="4437000"/>
            <a:ext cx="1295280" cy="574560"/>
          </a:xfrm>
          <a:prstGeom prst="bevel">
            <a:avLst>
              <a:gd name="adj" fmla="val 12500"/>
            </a:avLst>
          </a:pr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ndav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356000" y="4437000"/>
            <a:ext cx="2087640" cy="57456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ultimamen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443640" y="4438800"/>
            <a:ext cx="1295280" cy="57456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mui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0920" y="4437000"/>
            <a:ext cx="64908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78787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740720" y="4437000"/>
            <a:ext cx="129528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78787"/>
                </a:solidFill>
                <a:latin typeface="Times New Roman"/>
              </a:rPr>
              <a:t>tris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não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fazem análise sintátic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baseiam-se em “</a:t>
            </a: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janelas de decisão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76360" y="5373720"/>
            <a:ext cx="2160720" cy="503280"/>
          </a:xfrm>
          <a:prstGeom prst="rect">
            <a:avLst/>
          </a:prstGeom>
          <a:solidFill>
            <a:srgbClr val="00dc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V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2917800" y="4238640"/>
            <a:ext cx="1682640" cy="1015920"/>
          </a:xfrm>
          <a:custGeom>
            <a:avLst/>
            <a:gdLst/>
            <a:ahLst/>
            <a:rect l="l" t="t" r="r" b="b"/>
            <a:pathLst>
              <a:path w="1060" h="640">
                <a:moveTo>
                  <a:pt x="9" y="0"/>
                </a:moveTo>
                <a:lnTo>
                  <a:pt x="521" y="0"/>
                </a:lnTo>
                <a:lnTo>
                  <a:pt x="1060" y="0"/>
                </a:lnTo>
                <a:lnTo>
                  <a:pt x="905" y="594"/>
                </a:lnTo>
                <a:lnTo>
                  <a:pt x="0" y="640"/>
                </a:lnTo>
                <a:lnTo>
                  <a:pt x="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Limitações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no Aprendizado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6516720" y="152280"/>
            <a:ext cx="2437920" cy="1962720"/>
            <a:chOff x="6516720" y="152280"/>
            <a:chExt cx="2437920" cy="1962720"/>
          </a:xfrm>
        </p:grpSpPr>
        <p:cxnSp>
          <p:nvCxnSpPr>
            <p:cNvPr id="620" name="_s207879"/>
            <p:cNvCxnSpPr>
              <a:stCxn id="621" idx="0"/>
              <a:endCxn id="622" idx="2"/>
            </p:cNvCxnSpPr>
            <p:nvPr/>
          </p:nvCxnSpPr>
          <p:spPr>
            <a:xfrm flipV="1" rot="16200000">
              <a:off x="7647120" y="160020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623" name="_s207880"/>
            <p:cNvCxnSpPr>
              <a:stCxn id="622" idx="0"/>
              <a:endCxn id="624" idx="2"/>
            </p:cNvCxnSpPr>
            <p:nvPr/>
          </p:nvCxnSpPr>
          <p:spPr>
            <a:xfrm flipH="1" flipV="1" rot="5400000">
              <a:off x="7647120" y="66276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624" name="_s207881"/>
            <p:cNvSpPr/>
            <p:nvPr/>
          </p:nvSpPr>
          <p:spPr>
            <a:xfrm>
              <a:off x="6519600" y="15228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2" name="_s207882"/>
            <p:cNvSpPr/>
            <p:nvPr/>
          </p:nvSpPr>
          <p:spPr>
            <a:xfrm>
              <a:off x="6516720" y="754560"/>
              <a:ext cx="2437920" cy="757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1" name="_s207883"/>
            <p:cNvSpPr/>
            <p:nvPr/>
          </p:nvSpPr>
          <p:spPr>
            <a:xfrm>
              <a:off x="6519600" y="169236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900000" y="4437000"/>
            <a:ext cx="863640" cy="57456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seu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763640" y="4437000"/>
            <a:ext cx="1295640" cy="57456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irmã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59280" y="4437000"/>
            <a:ext cx="1295280" cy="574560"/>
          </a:xfrm>
          <a:prstGeom prst="bevel">
            <a:avLst>
              <a:gd name="adj" fmla="val 12500"/>
            </a:avLst>
          </a:pr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ndav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356000" y="4437000"/>
            <a:ext cx="2087640" cy="57456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ultimamen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443640" y="4438800"/>
            <a:ext cx="1295280" cy="57456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mui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0920" y="4437000"/>
            <a:ext cx="64908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78787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740720" y="4437000"/>
            <a:ext cx="129528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78787"/>
                </a:solidFill>
                <a:latin typeface="Times New Roman"/>
              </a:rPr>
              <a:t>tris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não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fazem análise sintátic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baseiam-se em “</a:t>
            </a: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janelas de decisão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476360" y="5373720"/>
            <a:ext cx="2160720" cy="503280"/>
          </a:xfrm>
          <a:prstGeom prst="rect">
            <a:avLst/>
          </a:prstGeom>
          <a:solidFill>
            <a:srgbClr val="00dc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V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51280" y="5373720"/>
            <a:ext cx="2305080" cy="50328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VLIG ou VINT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900000" y="3068640"/>
            <a:ext cx="77724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59595"/>
                </a:solidFill>
                <a:latin typeface="Arial"/>
              </a:rPr>
              <a:t>Do quê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59595"/>
                </a:solidFill>
                <a:latin typeface="Arial"/>
              </a:rPr>
              <a:t>Por quê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66"/>
                </a:solidFill>
                <a:latin typeface="Arial"/>
              </a:rPr>
              <a:t>Por quem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Com que </a:t>
            </a:r>
            <a:r>
              <a:rPr b="1" i="1" lang="pt-BR" sz="4400" spc="-1" strike="noStrike">
                <a:solidFill>
                  <a:srgbClr val="003366"/>
                </a:solidFill>
                <a:latin typeface="Arial"/>
              </a:rPr>
              <a:t>tagset</a:t>
            </a: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917800" y="2509920"/>
            <a:ext cx="1682640" cy="1015920"/>
          </a:xfrm>
          <a:custGeom>
            <a:avLst/>
            <a:gdLst/>
            <a:ahLst/>
            <a:rect l="l" t="t" r="r" b="b"/>
            <a:pathLst>
              <a:path w="1060" h="640">
                <a:moveTo>
                  <a:pt x="9" y="0"/>
                </a:moveTo>
                <a:lnTo>
                  <a:pt x="521" y="0"/>
                </a:lnTo>
                <a:lnTo>
                  <a:pt x="1060" y="0"/>
                </a:lnTo>
                <a:lnTo>
                  <a:pt x="905" y="594"/>
                </a:lnTo>
                <a:lnTo>
                  <a:pt x="0" y="640"/>
                </a:lnTo>
                <a:lnTo>
                  <a:pt x="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Limitações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no Aprendizado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6516720" y="152280"/>
            <a:ext cx="2437920" cy="1962720"/>
            <a:chOff x="6516720" y="152280"/>
            <a:chExt cx="2437920" cy="1962720"/>
          </a:xfrm>
        </p:grpSpPr>
        <p:cxnSp>
          <p:nvCxnSpPr>
            <p:cNvPr id="640" name="_s203783"/>
            <p:cNvCxnSpPr>
              <a:stCxn id="641" idx="0"/>
              <a:endCxn id="642" idx="2"/>
            </p:cNvCxnSpPr>
            <p:nvPr/>
          </p:nvCxnSpPr>
          <p:spPr>
            <a:xfrm flipV="1" rot="16200000">
              <a:off x="7647120" y="160020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643" name="_s203784"/>
            <p:cNvCxnSpPr>
              <a:stCxn id="642" idx="0"/>
              <a:endCxn id="644" idx="2"/>
            </p:cNvCxnSpPr>
            <p:nvPr/>
          </p:nvCxnSpPr>
          <p:spPr>
            <a:xfrm flipH="1" flipV="1" rot="5400000">
              <a:off x="7647120" y="662760"/>
              <a:ext cx="180000" cy="3600"/>
            </a:xfrm>
            <a:prstGeom prst="bentConnector3">
              <a:avLst>
                <a:gd name="adj1" fmla="val 4949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644" name="_s203785"/>
            <p:cNvSpPr/>
            <p:nvPr/>
          </p:nvSpPr>
          <p:spPr>
            <a:xfrm>
              <a:off x="6519600" y="15228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gênes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2" name="_s203786"/>
            <p:cNvSpPr/>
            <p:nvPr/>
          </p:nvSpPr>
          <p:spPr>
            <a:xfrm>
              <a:off x="6516720" y="754560"/>
              <a:ext cx="2437920" cy="757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aprendizado</a:t>
              </a:r>
              <a:br>
                <a:rPr sz="2000"/>
              </a:b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 automátic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1" name="_s203787"/>
            <p:cNvSpPr/>
            <p:nvPr/>
          </p:nvSpPr>
          <p:spPr>
            <a:xfrm>
              <a:off x="6519600" y="1692360"/>
              <a:ext cx="2434680" cy="4226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imes New Roman"/>
                </a:rPr>
                <a:t>supervisionad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900000" y="2708280"/>
            <a:ext cx="863640" cy="57456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seu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763640" y="2708280"/>
            <a:ext cx="1295640" cy="57456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irmã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059280" y="2708280"/>
            <a:ext cx="1295280" cy="574560"/>
          </a:xfrm>
          <a:prstGeom prst="bevel">
            <a:avLst>
              <a:gd name="adj" fmla="val 12500"/>
            </a:avLst>
          </a:pr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ndav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356000" y="2708280"/>
            <a:ext cx="2087640" cy="57456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ultimamen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43640" y="2709720"/>
            <a:ext cx="1295280" cy="57492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mui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50920" y="2708280"/>
            <a:ext cx="64908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78787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740720" y="2708280"/>
            <a:ext cx="1295280" cy="57456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cap="sq" w="12600">
            <a:solidFill>
              <a:srgbClr val="878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78787"/>
                </a:solidFill>
                <a:latin typeface="Times New Roman"/>
              </a:rPr>
              <a:t>tris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324000" y="112536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Etiquetação Morfossintát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4360" y="2708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Do quê?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59595"/>
                </a:solidFill>
                <a:latin typeface="Arial"/>
              </a:rPr>
              <a:t>Por quê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59595"/>
                </a:solidFill>
                <a:latin typeface="Arial"/>
              </a:rPr>
              <a:t>Por quem?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59595"/>
                </a:solidFill>
                <a:latin typeface="Arial"/>
              </a:rPr>
              <a:t>Com que </a:t>
            </a:r>
            <a:r>
              <a:rPr b="1" i="1" lang="pt-BR" sz="4400" spc="-1" strike="noStrike">
                <a:solidFill>
                  <a:srgbClr val="959595"/>
                </a:solidFill>
                <a:latin typeface="Arial"/>
              </a:rPr>
              <a:t>tagset</a:t>
            </a:r>
            <a:r>
              <a:rPr b="1" lang="pt-BR" sz="4400" spc="-1" strike="noStrike">
                <a:solidFill>
                  <a:srgbClr val="959595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Mãos na massa: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Mxpos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685800" y="2341080"/>
            <a:ext cx="7772400" cy="33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59595"/>
                </a:solidFill>
                <a:latin typeface="Arial"/>
              </a:rPr>
              <a:t>instalaçã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59595"/>
                </a:solidFill>
                <a:latin typeface="Arial"/>
              </a:rPr>
              <a:t>formatos de entrada e saíd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59595"/>
                </a:solidFill>
                <a:latin typeface="Arial"/>
              </a:rPr>
              <a:t>treinament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95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59595"/>
                </a:solidFill>
                <a:latin typeface="Arial"/>
              </a:rPr>
              <a:t>modelo GiAriRon: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a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59595"/>
                </a:solidFill>
                <a:latin typeface="Arial"/>
              </a:rPr>
              <a:t>portuguê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a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59595"/>
                </a:solidFill>
                <a:latin typeface="Arial"/>
              </a:rPr>
              <a:t>treinamento: 100 mil palavras (nossas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a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59595"/>
                </a:solidFill>
                <a:latin typeface="Arial"/>
              </a:rPr>
              <a:t>precisão: 97%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59595"/>
                </a:solidFill>
                <a:latin typeface="Arial"/>
              </a:rPr>
              <a:t>us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Mãos na massa: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Mxpos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685800" y="2341080"/>
            <a:ext cx="7772400" cy="33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instalaçã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formatos de entrada e saíd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treinament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95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59595"/>
                </a:solidFill>
                <a:latin typeface="Arial"/>
              </a:rPr>
              <a:t>modelo GiAriRon: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a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59595"/>
                </a:solidFill>
                <a:latin typeface="Arial"/>
              </a:rPr>
              <a:t>portuguê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a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59595"/>
                </a:solidFill>
                <a:latin typeface="Arial"/>
              </a:rPr>
              <a:t>treinamento: 100 mil palavras (nossas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a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59595"/>
                </a:solidFill>
                <a:latin typeface="Arial"/>
              </a:rPr>
              <a:t>precisão: 97%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us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3200" spc="-1" strike="noStrike">
                <a:solidFill>
                  <a:srgbClr val="004c00"/>
                </a:solidFill>
                <a:latin typeface="Tempus Sans ITC"/>
              </a:rPr>
              <a:t>Mãos na massa: </a:t>
            </a:r>
            <a:r>
              <a:rPr b="1" lang="pt-BR" sz="4400" spc="-1" strike="noStrike">
                <a:solidFill>
                  <a:srgbClr val="cc9900"/>
                </a:solidFill>
                <a:latin typeface="Tempus Sans ITC"/>
              </a:rPr>
              <a:t>Mxpos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685800" y="2341080"/>
            <a:ext cx="7772400" cy="33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instalaçã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formatos de entrada e saíd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treinament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modelo GiAriRon: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a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portuguê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a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treinamento: 100 mil palavras (nossas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a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precisão: 97%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a5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us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4c00"/>
                </a:solidFill>
                <a:latin typeface="Tempus Sans ITC"/>
              </a:rPr>
              <a:t>FIM</a:t>
            </a:r>
            <a:endParaRPr b="0" lang="en-US" sz="4400" spc="-1" strike="noStrike">
              <a:solidFill>
                <a:srgbClr val="004c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324000" y="112536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Etiquetação Morfossintát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4360" y="2708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Do quê?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Por quê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59595"/>
                </a:solidFill>
                <a:latin typeface="Arial"/>
              </a:rPr>
              <a:t>Por quem?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59595"/>
                </a:solidFill>
                <a:latin typeface="Arial"/>
              </a:rPr>
              <a:t>Com que </a:t>
            </a:r>
            <a:r>
              <a:rPr b="1" i="1" lang="pt-BR" sz="4400" spc="-1" strike="noStrike">
                <a:solidFill>
                  <a:srgbClr val="959595"/>
                </a:solidFill>
                <a:latin typeface="Arial"/>
              </a:rPr>
              <a:t>tagset</a:t>
            </a:r>
            <a:r>
              <a:rPr b="1" lang="pt-BR" sz="4400" spc="-1" strike="noStrike">
                <a:solidFill>
                  <a:srgbClr val="959595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324000" y="112536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Etiquetação Morfossintát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360" y="2708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Do quê?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Por quê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66"/>
                </a:solidFill>
                <a:latin typeface="Arial"/>
              </a:rPr>
              <a:t>Por quem?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59595"/>
                </a:solidFill>
                <a:latin typeface="Arial"/>
              </a:rPr>
              <a:t>Com que </a:t>
            </a:r>
            <a:r>
              <a:rPr b="1" i="1" lang="pt-BR" sz="4400" spc="-1" strike="noStrike">
                <a:solidFill>
                  <a:srgbClr val="959595"/>
                </a:solidFill>
                <a:latin typeface="Arial"/>
              </a:rPr>
              <a:t>tagset</a:t>
            </a:r>
            <a:r>
              <a:rPr b="1" lang="pt-BR" sz="4400" spc="-1" strike="noStrike">
                <a:solidFill>
                  <a:srgbClr val="959595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324000" y="112536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Etiquetação Morfossintát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4360" y="2708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Do quê?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Por quê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66"/>
                </a:solidFill>
                <a:latin typeface="Arial"/>
              </a:rPr>
              <a:t>Por quem?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Com que </a:t>
            </a:r>
            <a:r>
              <a:rPr b="1" i="1" lang="pt-BR" sz="4400" spc="-1" strike="noStrike">
                <a:solidFill>
                  <a:srgbClr val="003366"/>
                </a:solidFill>
                <a:latin typeface="Arial"/>
              </a:rPr>
              <a:t>tagset</a:t>
            </a:r>
            <a:r>
              <a:rPr b="1" lang="pt-BR" sz="4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2400" spc="-1" strike="noStrike">
                <a:solidFill>
                  <a:srgbClr val="004c00"/>
                </a:solidFill>
                <a:latin typeface="Tempus Sans ITC"/>
              </a:rPr>
              <a:t>Etiquetação Morfossintática</a:t>
            </a:r>
            <a:r>
              <a:rPr b="1" lang="pt-BR" sz="2800" spc="-1" strike="noStrike">
                <a:solidFill>
                  <a:srgbClr val="004c00"/>
                </a:solidFill>
                <a:latin typeface="Tempus Sans ITC"/>
              </a:rPr>
              <a:t> </a:t>
            </a:r>
            <a:r>
              <a:rPr b="1" lang="pt-BR" sz="4000" spc="-1" strike="noStrike">
                <a:solidFill>
                  <a:srgbClr val="cc9900"/>
                </a:solidFill>
                <a:latin typeface="Tempus Sans ITC"/>
              </a:rPr>
              <a:t>Automátic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3280" y="4421160"/>
            <a:ext cx="136692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 xx x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 xx 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 xxx x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187280" y="4421160"/>
            <a:ext cx="2556000" cy="1600200"/>
            <a:chOff x="1187280" y="4421160"/>
            <a:chExt cx="2556000" cy="1600200"/>
          </a:xfrm>
        </p:grpSpPr>
        <p:sp>
          <p:nvSpPr>
            <p:cNvPr id="143" name=""/>
            <p:cNvSpPr/>
            <p:nvPr/>
          </p:nvSpPr>
          <p:spPr>
            <a:xfrm>
              <a:off x="1187280" y="4421160"/>
              <a:ext cx="2556000" cy="160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b1cfb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98240" y="49546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Pré-processado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7021440" y="2549520"/>
            <a:ext cx="136692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V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N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PRE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498920" y="2476440"/>
            <a:ext cx="1620720" cy="1600200"/>
            <a:chOff x="4498920" y="2476440"/>
            <a:chExt cx="1620720" cy="1600200"/>
          </a:xfrm>
        </p:grpSpPr>
        <p:sp>
          <p:nvSpPr>
            <p:cNvPr id="147" name=""/>
            <p:cNvSpPr/>
            <p:nvPr/>
          </p:nvSpPr>
          <p:spPr>
            <a:xfrm>
              <a:off x="4498920" y="2476440"/>
              <a:ext cx="1620720" cy="160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b1cfb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04200" y="300996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Tagge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013440" y="3052800"/>
            <a:ext cx="1150920" cy="50328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2492280"/>
            <a:ext cx="136692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aa a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a aa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aa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4896360" y="389592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4941720"/>
            <a:ext cx="1150920" cy="50328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2016720" y="411372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42920" y="4221000"/>
            <a:ext cx="2817720" cy="2016360"/>
          </a:xfrm>
          <a:custGeom>
            <a:avLst/>
            <a:gdLst/>
            <a:ahLst/>
            <a:rect l="l" t="t" r="r" b="b"/>
            <a:pathLst>
              <a:path w="1775" h="1270">
                <a:moveTo>
                  <a:pt x="56" y="84"/>
                </a:moveTo>
                <a:lnTo>
                  <a:pt x="1769" y="0"/>
                </a:lnTo>
                <a:lnTo>
                  <a:pt x="1775" y="1163"/>
                </a:lnTo>
                <a:lnTo>
                  <a:pt x="0" y="1270"/>
                </a:lnTo>
                <a:lnTo>
                  <a:pt x="56" y="8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324000" y="1125360"/>
            <a:ext cx="792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4c00"/>
                </a:solidFill>
                <a:latin typeface="Tempus Sans ITC"/>
              </a:rPr>
              <a:t>   </a:t>
            </a:r>
            <a:r>
              <a:rPr b="1" lang="pt-BR" sz="2400" spc="-1" strike="noStrike">
                <a:solidFill>
                  <a:srgbClr val="004c00"/>
                </a:solidFill>
                <a:latin typeface="Tempus Sans ITC"/>
              </a:rPr>
              <a:t>Etiquetação Morfossintática</a:t>
            </a:r>
            <a:r>
              <a:rPr b="1" lang="pt-BR" sz="2800" spc="-1" strike="noStrike">
                <a:solidFill>
                  <a:srgbClr val="004c00"/>
                </a:solidFill>
                <a:latin typeface="Tempus Sans ITC"/>
              </a:rPr>
              <a:t> </a:t>
            </a:r>
            <a:r>
              <a:rPr b="1" lang="pt-BR" sz="4000" spc="-1" strike="noStrike">
                <a:solidFill>
                  <a:srgbClr val="cc9900"/>
                </a:solidFill>
                <a:latin typeface="Tempus Sans ITC"/>
              </a:rPr>
              <a:t>Automátic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4421160"/>
            <a:ext cx="136692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 xx x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 xx x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 xxx x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87280" y="4421160"/>
            <a:ext cx="2556000" cy="1600200"/>
            <a:chOff x="1187280" y="4421160"/>
            <a:chExt cx="2556000" cy="1600200"/>
          </a:xfrm>
        </p:grpSpPr>
        <p:sp>
          <p:nvSpPr>
            <p:cNvPr id="159" name=""/>
            <p:cNvSpPr/>
            <p:nvPr/>
          </p:nvSpPr>
          <p:spPr>
            <a:xfrm>
              <a:off x="1187280" y="4421160"/>
              <a:ext cx="2556000" cy="160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b1cfb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98240" y="49546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Pré-processado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021440" y="2549520"/>
            <a:ext cx="136692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V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N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xx</a:t>
            </a:r>
            <a:r>
              <a:rPr b="0" lang="pt-BR" sz="2400" spc="-1" strike="noStrike">
                <a:solidFill>
                  <a:srgbClr val="cc6600"/>
                </a:solidFill>
                <a:latin typeface="Times New Roman"/>
              </a:rPr>
              <a:t>_PRE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498920" y="2476440"/>
            <a:ext cx="1620720" cy="1600200"/>
            <a:chOff x="4498920" y="2476440"/>
            <a:chExt cx="1620720" cy="1600200"/>
          </a:xfrm>
        </p:grpSpPr>
        <p:sp>
          <p:nvSpPr>
            <p:cNvPr id="163" name=""/>
            <p:cNvSpPr/>
            <p:nvPr/>
          </p:nvSpPr>
          <p:spPr>
            <a:xfrm>
              <a:off x="4498920" y="2476440"/>
              <a:ext cx="1620720" cy="160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b1cfb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4200" y="300996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Tagge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013440" y="3052800"/>
            <a:ext cx="1150920" cy="50328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63640" y="2492280"/>
            <a:ext cx="1366920" cy="1584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aa a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a aa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Lucida Handwriting"/>
              </a:rPr>
              <a:t>aaa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4896360" y="389592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35280" y="4941720"/>
            <a:ext cx="1150920" cy="50328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2016720" y="411372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3:33:35Z</dcterms:created>
  <dc:creator>LABIC</dc:creator>
  <dc:description/>
  <dc:language>en-US</dc:language>
  <cp:lastModifiedBy>*</cp:lastModifiedBy>
  <cp:lastPrinted>2000-05-11T04:47:43Z</cp:lastPrinted>
  <dcterms:modified xsi:type="dcterms:W3CDTF">2002-06-20T14:22:41Z</dcterms:modified>
  <cp:revision>367</cp:revision>
  <dc:subject/>
  <dc:title>Visão geral do projeto</dc:title>
</cp:coreProperties>
</file>